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A1224-8C51-4EDF-AAD3-957203D26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2BF2C-9778-45EF-A06D-7FD3BECCC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C7055-964F-49A3-BF61-5643C6258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38153-5C34-41BB-B276-BDA8C6BE8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E964E-940D-44A6-B086-2176DC78C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5EF4A-7EBC-40C7-9510-82DFCD3EF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F4962-D43C-4E94-BA7D-677DDE01C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952AF-FF3B-47F7-9A25-EFC3B96CE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705B1-E270-4299-8B5D-21A75A884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FF788-ED07-49FE-A13B-62425821C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999EB-E297-457F-8113-F356C3451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8E4B7-7B6A-4C42-95AB-B0AB3FAA9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71B2-591A-41AE-8BC3-40FDA6B717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wedge" transition="in">
                                      <p:cBhvr additive="repl">
                                        <p:cTn id="87" dur="2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2000"/>
                                        <p:tgtEl>
                                          <p:spTgt spid="55">
                                            <p:txEl>
                                              <p:pRg st="3" end="3"/>
                                            </p:txEl>
                                          </p:spTgt>
                                        </p:tgtEl>
                                      </p:cBhvr>
                                    </p:animEffect>
                                    <p:anim calcmode="lin" valueType="num">
                                      <p:cBhvr additive="repl">
                                        <p:cTn id="93"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4"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