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74038-542A-4B4A-9C76-8B2697635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990AD-7B59-448A-A707-0DD813BC9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8C9A1-27B6-4107-B7E1-175985D18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42D06-9381-4F12-B344-E1A8E65E2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1CBFA-F79C-4588-AE94-C398FF84D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73F11-3043-4CA7-88B6-4DF993AFB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66D2A-9CA8-48F5-8E1B-357C3C91F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BF634-72AE-403E-9CD7-5148EE7F7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EBEF5-65E7-4E34-8524-0EDD49144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306F9-0285-4E1E-973B-D83D12C10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9EA7-06A0-4F03-B3B2-84F168691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719A8-00F1-4641-A704-EF527DCEE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44E5-9637-4BE8-B467-99CC0F8306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 dur="1000" fill="hold"/>
                                        <p:tgtEl>
                                          <p:spTgt spid="5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94"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