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09E53-2DFF-4D84-9121-7FDE69921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8AAC7-07B2-40B2-8296-81B05A35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40D6B-7BAF-4B4D-8048-2C5BB56FC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59CDC-5EF4-4315-98EF-1F159CE74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3F1CD-4891-4E81-BDDF-F5E0EE7BD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20697-5B02-486B-A72D-F3B3DEF1D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E8ED5-F92E-492F-B022-5311F396A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9925F-6259-48E1-BDA3-BB16E2BBE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49593-5504-48FE-90EF-9DF730BAA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292CD-7E80-48D5-8847-07BCEEEEF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2E7A4-A73D-4940-AD3E-1C0B44F93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903ED-8EA0-4576-972C-07570F78C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E6CE-09AD-4680-A0A7-EB371B678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8"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Effect filter="fade" transition="in">
                                      <p:cBhvr additive="repl">
                                        <p:cTn id="95" dur="2000"/>
                                        <p:tgtEl>
                                          <p:spTgt spid="55">
                                            <p:txEl>
                                              <p:pRg st="3" end="3"/>
                                            </p:txEl>
                                          </p:spTgt>
                                        </p:tgtEl>
                                      </p:cBhvr>
                                    </p:animEffect>
                                    <p:anim calcmode="lin" valueType="num">
                                      <p:cBhvr additive="repl">
                                        <p:cTn id="96"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7"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