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42B75-DE8F-4713-B74B-8D76102E9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94A8E-9054-4351-9828-B589946CB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1D517-A550-4AC4-B8C2-C1BD0A628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F5D47-0322-439C-ADF2-B69E1FA83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653F7-5838-4C2D-85A0-8F63A4FFC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385DB-002D-4999-AD3E-E7A75E1FC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5D414-7392-4237-BE72-CA97F2FA5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B072F-C22B-4E06-A630-9CE3BD737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3BA6D-C4ED-400F-AD63-3739F88C2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E8E1C-49FF-4B87-8745-402721D6F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74935-181A-4C0E-9D0E-C08271040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91276-7781-45AD-BF4B-FB853ACCB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3E9C-EA2E-4FAB-AB10-BFA4FC5671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r</p:attrName>
                                        </p:attrNameLst>
                                      </p:cBhvr>
                                      <p:tavLst>
                                        <p:tav tm="0">
                                          <p:val>
                                            <p:strVal val="90"/>
                                          </p:val>
                                        </p:tav>
                                        <p:tav tm="100000">
                                          <p:val>
                                            <p:strVal val="0"/>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blinds(vertical)"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3" dur="1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