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F2A0A-48EE-4196-BB06-931CE4D8D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79ACD-BCEF-4F27-98C6-2BB05A9A4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F816C-14DA-4A02-B7BA-D88CCBACB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CFAE1-FAA2-465D-9C9E-A87B06FD83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67006-B042-4762-81F7-00566E67B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FB9B4-3738-4057-B504-1D01A7114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A58FE-BC9A-49AD-9961-64FE743B7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9F5AC-ECD4-4651-ACEF-263503ADE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A6173-CE23-4A18-AA05-228EBABFA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3049D-84E0-4844-BA38-E42A291DB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1DA26-60D9-479D-BAE4-B5A593E68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0B4DD-3878-4D0A-8168-54CA17C07A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CC468-A8AD-45ED-9B74-C2D02513A3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1000" fill="hold"/>
                                        <p:tgtEl>
                                          <p:spTgt spid="55">
                                            <p:txEl>
                                              <p:pRg st="1" end="1"/>
                                            </p:txEl>
                                          </p:spTgt>
                                        </p:tgtEl>
                                        <p:attrNameLst>
                                          <p:attrName>r</p:attrName>
                                        </p:attrNameLst>
                                      </p:cBhvr>
                                      <p:tavLst>
                                        <p:tav tm="0">
                                          <p:val>
                                            <p:strVal val="90"/>
                                          </p:val>
                                        </p:tav>
                                        <p:tav tm="100000">
                                          <p:val>
                                            <p:strVal val="0"/>
                                          </p:val>
                                        </p:tav>
                                      </p:tavLst>
                                    </p:anim>
                                    <p:animEffect filter="fade" transition="in">
                                      <p:cBhvr additive="repl">
                                        <p:cTn id="81" dur="10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fade" transition="in">
                                      <p:cBhvr additive="repl">
                                        <p:cTn id="86" dur="20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2"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3" dur="5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