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F242F-956B-41F2-ABCD-CC411BA88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4E09B-21AC-4006-868D-B09D03DF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4951A-30ED-45B9-BE0A-2A5A85FA7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69422-E8FF-43EE-9AFF-4EC041C06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B5EB2-8344-493F-9524-C483C567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877E-9D1E-4747-9C93-C0A6A359B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830C4-14A8-4901-9659-11BAB495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E9013-7795-485C-908E-546ECEDA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822B0-DC76-4999-9EF0-8084E737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D3DD-E84A-48ED-B86B-AA7D7F57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320E-991A-47C9-886C-98BD3592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57AF-B7B3-4C90-BC5B-68F62FEEC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12F9-FB01-42C3-989A-53251A374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5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lin" valueType="num">
                                      <p:cBhvr additive="repl">
                                        <p:cTn id="97"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8"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9" dur="5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