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87BA09-0B92-4EF7-9560-61B13490F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9A176-0861-47E3-957D-A3F6E9D57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E87D0C-8579-43C4-AB1C-BC400CB498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39116-C110-4976-99D4-C58F27C1E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458B4-1B65-4DA7-8263-480671CFD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0CDEA-373C-427A-B23D-4628F4940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D4990-14A5-4EB5-B66F-B4E5E14C7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F2C94-3791-4D03-AF71-070DA7025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D1383-1A80-422F-962F-516E82DC8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2E94F-8BDD-4362-95D5-E450D17C4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1B8F0-FEB0-4655-90C6-7A7034D23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A2188-D981-4C2B-A461-A0CC4F68BD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1E43C-FDF7-486F-A8F2-D90C8FC5B1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4*#ppt_w"/>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4*#ppt_h"/>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Effect filter="fade" transition="in">
                                      <p:cBhvr additive="repl">
                                        <p:cTn id="84" dur="2000"/>
                                        <p:tgtEl>
                                          <p:spTgt spid="55">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anim calcmode="lin" valueType="num">
                                      <p:cBhvr additive="repl">
                                        <p:cTn id="89"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0"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1" dur="500"/>
                                        <p:tgtEl>
                                          <p:spTgt spid="55">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