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D8307-5F3C-43C5-9DA2-2F03C56C3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A5BF7-D340-4B63-A7BE-9EBEC60C4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DD3F2-0F2F-4190-BF5B-F6BCB3B8C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37B2C-5A6B-4E8E-9235-90BDE44DD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DCED8-B686-4B58-BAEA-8097214EC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C60B2-7A55-4D49-BE90-4AC5591AF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F3450-015C-41CC-B3D6-BC21AA919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26DE7-5E99-498A-A78C-CB906FA28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C4034-8F39-4AE7-A76F-5071AF756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EC8ED-F378-4B0C-8A9A-6834120A9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5689C-40E6-4D72-A8BD-498A4577F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B3A72-8739-4D1F-8C5B-8CAD3EDFC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54F65-121C-46ED-A8A0-AB2C280D8C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randombar(horizont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5" dur="1000" fill="hold"/>
                                        <p:tgtEl>
                                          <p:spTgt spid="55">
                                            <p:txEl>
                                              <p:pRg st="2" end="2"/>
                                            </p:txEl>
                                          </p:spTgt>
                                        </p:tgtEl>
                                        <p:attrNameLst>
                                          <p:attrName>r</p:attrName>
                                        </p:attrNameLst>
                                      </p:cBhvr>
                                      <p:tavLst>
                                        <p:tav tm="0">
                                          <p:val>
                                            <p:strVal val="90"/>
                                          </p:val>
                                        </p:tav>
                                        <p:tav tm="100000">
                                          <p:val>
                                            <p:strVal val="0"/>
                                          </p:val>
                                        </p:tav>
                                      </p:tavLst>
                                    </p:anim>
                                    <p:animEffect filter="fade" transition="in">
                                      <p:cBhvr additive="repl">
                                        <p:cTn id="86" dur="1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box(in)" transition="in">
                                      <p:cBhvr additive="repl">
                                        <p:cTn id="91" dur="5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