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FE0D7-C95E-4B14-BC1C-C8822F2FD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4E996-BF10-4C11-9B52-4C7612919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33A55-DDF8-4509-BB2B-3420A76C9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3CCA9-9B8B-4C3A-8728-BE03321BA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12113-4C64-494A-B26E-BB9E076D1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1C528-A6F6-4880-A431-3DFDF405A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9E3EE-B7E2-4A16-849D-1CB4ACA37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13E67-E176-4BEE-909F-0C2151FA7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2B697-EB2C-4600-BF99-F106A8C2E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30987-078E-478E-B4E4-9A93FE589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C1DC8-A993-47E9-BBDA-09525EDB9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BF7C4-185B-48EA-A390-BC90C6E87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B542-C9E7-4B28-8B42-40E2E8AFE6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set>
                                      <p:cBhvr>
                                        <p:cTn id="83" dur="455" fill="hold">
                                          <p:stCondLst>
                                            <p:cond delay="0"/>
                                          </p:stCondLst>
                                        </p:cTn>
                                        <p:tgtEl>
                                          <p:spTgt spid="55">
                                            <p:txEl>
                                              <p:pRg st="2" end="2"/>
                                            </p:txEl>
                                          </p:spTgt>
                                        </p:tgtEl>
                                        <p:attrNameLst>
                                          <p:attrName>r</p:attrName>
                                        </p:attrNameLst>
                                      </p:cBhvr>
                                      <p:to>
                                        <p:strVal val="-45"/>
                                      </p:to>
                                    </p:set>
                                    <p:anim calcmode="lin" valueType="num">
                                      <p:cBhvr additive="repl">
                                        <p:cTn id="84" dur="455" fill="hold">
                                          <p:stCondLst>
                                            <p:cond delay="455"/>
                                          </p:stCondLst>
                                        </p:cTn>
                                        <p:tgtEl>
                                          <p:spTgt spid="55">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85" dur="455" fill="hold">
                                          <p:stCondLst>
                                            <p:cond delay="0"/>
                                          </p:stCondLst>
                                        </p:cTn>
                                        <p:tgtEl>
                                          <p:spTgt spid="55">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86" dur="156" autoRev="1" fill="hold">
                                          <p:stCondLst>
                                            <p:cond delay="455"/>
                                          </p:stCondLst>
                                        </p:cTn>
                                        <p:tgtEl>
                                          <p:spTgt spid="55">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7" dur="136" fill="hold">
                                          <p:stCondLst>
                                            <p:cond delay="864"/>
                                          </p:stCondLst>
                                        </p:cTn>
                                        <p:tgtEl>
                                          <p:spTgt spid="55">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3"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4" dur="5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