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C76C6-72D0-4BD1-B65D-DB8EDDE2B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AD6B2-EC69-4726-BA78-6D047B3ED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FB867-DFD2-42F8-8245-EA117B646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3D1A0-E06C-427D-ACF6-0FA0BF6EA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95CA0-E9D5-41E8-B617-41E1320A1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F0F9C-31C0-4C6D-AA83-60AC8F0E3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0C1BD-8D39-413F-990E-3F76004D1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8FB48-E2A8-43A4-8A8C-14ED16DE2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27012-1490-4EB4-8D6C-D8AC3C0B6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144EE-F50A-4F25-9F75-29EDBB257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63523-119A-460F-B07C-308A3C71A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19012-7999-4B70-BA5E-0F030C396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8218-B834-4007-B371-AAF339A9CF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5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2" end="2"/>
                                            </p:txEl>
                                          </p:spTgt>
                                        </p:tgtEl>
                                        <p:attrNameLst>
                                          <p:attrName>style.visibility</p:attrName>
                                        </p:attrNameLst>
                                      </p:cBhvr>
                                      <p:to>
                                        <p:strVal val="visible"/>
                                      </p:to>
                                    </p:set>
                                    <p:animEffect filter="plus(out)" transition="in">
                                      <p:cBhvr additive="repl">
                                        <p:cTn id="90" dur="20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500" fill="hold"/>
                                        <p:tgtEl>
                                          <p:spTgt spid="55">
                                            <p:txEl>
                                              <p:pRg st="3" end="3"/>
                                            </p:txEl>
                                          </p:spTgt>
                                        </p:tgtEl>
                                        <p:attrNameLst>
                                          <p:attrName>ppt_w</p:attrName>
                                        </p:attrNameLst>
                                      </p:cBhvr>
                                      <p:tavLst>
                                        <p:tav tm="0">
                                          <p:val>
                                            <p:strVal val="#ppt_w*0.05"/>
                                          </p:val>
                                        </p:tav>
                                        <p:tav tm="100000">
                                          <p:val>
                                            <p:strVal val="#ppt_w"/>
                                          </p:val>
                                        </p:tav>
                                      </p:tavLst>
                                    </p:anim>
                                    <p:anim calcmode="lin" valueType="num">
                                      <p:cBhvr additive="repl">
                                        <p:cTn id="96" dur="5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7" dur="5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8" dur="5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9" dur="500"/>
                                        <p:tgtEl>
                                          <p:spTgt spid="5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