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A86CC-EDAE-487F-AEE5-8ABA43260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53F5-193E-41A6-A8BA-45972BC2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DC75E-9BDF-4BE2-B2A2-E6922243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BC14B-1F9B-4707-9E0C-254501876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6EA8-BE4E-41F4-BF62-89A0E162A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1DC4-9D2C-4E45-87A0-769D1DA4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93E08-4A7A-4210-972E-DE4EDB9B6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361DD-8DBC-41C3-8C6D-4BACAE9B2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24A62-E778-45F1-9ACF-FF7D4637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7243-380C-4766-9AB2-9338D288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6DD4-85E0-4668-8E51-E059BAF5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5C95-D1C7-421E-ADF6-E86F8B013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BDA7-736D-4088-9779-B56BC499C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 calcmode="lin" valueType="num">
                                      <p:cBhvr additive="repl">
                                        <p:cTn id="90"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3" dur="1000"/>
                                        <p:tgtEl>
                                          <p:spTgt spid="55">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5">
                                            <p:txEl>
                                              <p:pRg st="3" end="3"/>
                                            </p:txEl>
                                          </p:spTgt>
                                        </p:tgtEl>
                                        <p:attrNameLst>
                                          <p:attrName>style.visibility</p:attrName>
                                        </p:attrNameLst>
                                      </p:cBhvr>
                                      <p:to>
                                        <p:strVal val="visible"/>
                                      </p:to>
                                    </p:set>
                                    <p:anim calcmode="lin" valueType="num">
                                      <p:cBhvr additive="repl">
                                        <p:cTn id="9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5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