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0C5E2-D523-4690-853D-B2279342E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062B5-0C8C-4099-A8B4-4962DFC3B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946AB-B814-48DC-83ED-F6BC5F709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ABB88-29B7-4922-A056-E177BDB3D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F704C-083D-43CE-9727-BC630FE13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F3432-C17B-489C-B67F-F34B21EF6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0C6C3-A422-412F-BE12-207D688AB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EA183-6DB4-4B62-9F49-6AA049879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D9A18-C137-4095-91C2-5379F7072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8B47C-A492-4DC1-ABC6-04895507D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490DD-A84D-44FF-B1F9-DE696FD76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C58C5-1634-46C1-A3B0-7D09B498E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66A00-3ECA-435C-95C6-926576E611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slide(fromBottom)"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2"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3" dur="1000" fill="hold"/>
                                        <p:tgtEl>
                                          <p:spTgt spid="55">
                                            <p:txEl>
                                              <p:pRg st="3" end="3"/>
                                            </p:txEl>
                                          </p:spTgt>
                                        </p:tgtEl>
                                        <p:attrNameLst>
                                          <p:attrName>r</p:attrName>
                                        </p:attrNameLst>
                                      </p:cBhvr>
                                      <p:tavLst>
                                        <p:tav tm="0">
                                          <p:val>
                                            <p:strVal val="90"/>
                                          </p:val>
                                        </p:tav>
                                        <p:tav tm="100000">
                                          <p:val>
                                            <p:strVal val="0"/>
                                          </p:val>
                                        </p:tav>
                                      </p:tavLst>
                                    </p:anim>
                                    <p:animEffect filter="fade"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