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C1F3D-9D57-4B01-B960-BBC2A5B42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87744-1261-404B-B0D9-2B89EA091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3D3B7-2D2C-48FD-AC3C-FE2BAE1B9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EA69B-D25B-4837-95B9-72F68D27A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97B0C-98F5-46CD-90D5-82DD54A18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D86A0-FBBA-41D1-88B1-7B371B258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63C6E-1927-49DC-B6BC-7DB88B04E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4EF14-D367-47D7-B0ED-AF8C13A38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F0DE3-29A7-4B58-80E1-8E3DC08B6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187B9-9F50-4DE8-9E27-735A54B4E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C8DC7-2DF6-4683-B669-7F9C737DD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BB909-92F1-46B0-8E1D-30BB88A58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9324-D855-496D-B8E6-FC65806AAD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55">
                                            <p:txEl>
                                              <p:pRg st="2" end="2"/>
                                            </p:txEl>
                                          </p:spTgt>
                                        </p:tgtEl>
                                        <p:attrNameLst>
                                          <p:attrName>ppt_y</p:attrName>
                                        </p:attrNameLst>
                                      </p:cBhvr>
                                      <p:tavLst>
                                        <p:tav tm="0">
                                          <p:val>
                                            <p:strVal val="#ppt_y"/>
                                          </p:val>
                                        </p:tav>
                                        <p:tav tm="100000">
                                          <p:val>
                                            <p:strVal val="#ppt_y"/>
                                          </p:val>
                                        </p:tav>
                                      </p:tavLst>
                                    </p:anim>
                                    <p:anim calcmode="lin" valueType="num">
                                      <p:cBhvr additive="repl">
                                        <p:cTn id="85" dur="500" fill="hold"/>
                                        <p:tgtEl>
                                          <p:spTgt spid="5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5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