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EEAC6-58E5-4A36-BAE3-073034536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0F7A5-5C09-44E6-84CD-AF112066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BD7C-C093-4E04-8171-1513464B5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4D2BE-0D17-4E87-9219-1DD537965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B252-C2AA-47B1-B6A2-21A7720A7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3E4E-C89B-473B-900D-5947F485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B519-C89A-4B71-8D55-7D67436A5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6D1C-F954-4621-8B6E-43E514AB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8FC67-BB46-4402-8B1A-D4711A99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E308-2DF9-4AF8-ABD9-16DEE84B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5A37-030E-451F-953C-931F28A1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9715-D3E1-4D04-9F56-5ED7DE151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FAEF-5A62-455C-8ACB-424310E20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800"/>
                                        <p:tgtEl>
                                          <p:spTgt spid="55">
                                            <p:txEl>
                                              <p:pRg st="3" end="3"/>
                                            </p:txEl>
                                          </p:spTgt>
                                        </p:tgtEl>
                                      </p:cBhvr>
                                    </p:animEffect>
                                    <p:anim calcmode="lin" valueType="num">
                                      <p:cBhvr additive="repl">
                                        <p:cTn id="94"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5"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6"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