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AB481-4D1D-4DB1-85E9-4BCA0782A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F7DA-4F04-46F9-97B0-58FA4A18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2469-9877-4962-862F-0FF7BB0E6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2C0C0-B36A-4CDA-8882-8E97E0CC5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9072-1E76-4FB8-9DDB-EB8FB1742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A901-974E-4AA6-BC1C-595F3825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18A3-5E59-4ECF-A404-AFBDC8BB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87974-E765-488E-9DF2-70445A3A3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8D7DA-7DD7-4051-994E-EAF5CD8C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AC4B-50CE-4014-9ABE-0413B3F2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22EA-5022-433E-A3EA-4A1B01D12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494B-BA25-4090-A5D6-509ECBB07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B68E-7EC8-4C49-86F1-216C5B566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3)"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4"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discrete" valueType="clr">
                                      <p:cBhvr additive="repl">
                                        <p:cTn id="89"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5">
                                            <p:txEl>
                                              <p:pRg st="3" end="3"/>
                                            </p:txEl>
                                          </p:spTgt>
                                        </p:tgtEl>
                                        <p:attrNameLst>
                                          <p:attrName>fillcolor</p:attrName>
                                        </p:attrNameLst>
                                      </p:cBhvr>
                                      <p:tavLst>
                                        <p:tav tm="0">
                                          <p:val>
                                            <p:strVal val="rgb(-103,51,51)"/>
                                          </p:val>
                                        </p:tav>
                                        <p:tav tm="50000">
                                          <p:val>
                                            <p:strVal val="rgb(-103,-103,0)"/>
                                          </p:val>
                                        </p:tav>
                                      </p:tavLst>
                                    </p:anim>
                                    <p:set>
                                      <p:cBhvr>
                                        <p:cTn id="91" dur="80"/>
                                        <p:tgtEl>
                                          <p:spTgt spid="55">
                                            <p:txEl>
                                              <p:pRg st="3" end="3"/>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