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622D1-F8CC-4D1C-9F77-91F6DF40C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4AAF1-264A-46EB-90BA-0C3CA72E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54295-2E2C-47D0-8A6E-C32EC401E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6C6B-9F83-49CB-BAFD-C313550B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20A3-CD16-4119-854A-1EBA0FB2E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50ABB-8015-483E-BD8D-4C84038C4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BE8C9-03E8-4AFC-BB25-B4A9DB80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2E58-2684-41E4-9E61-7E74999B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AF9BE-277E-44BD-9010-FBEC8C614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55C2-ED70-47E6-854A-55B261E0D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D105-2FE2-44AF-BB1D-C30ABDA6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5EE5-91A8-4712-8618-368FF06C2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886A-D972-4489-B0C9-85BA091D8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Scale>
                                      <p:cBhvr>
                                        <p:cTn id="86"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55">
                                            <p:txEl>
                                              <p:pRg st="2" end="2"/>
                                            </p:txEl>
                                          </p:spTgt>
                                        </p:tgtEl>
                                      </p:cBhvr>
                                    </p:animMotion>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5"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6"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