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037D4-39B2-45BB-A660-0326C5265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BB989-752A-4B0A-94E0-74721E12F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BF830-AC7F-4CC2-B1E0-3FFD0B874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5BE74-A64C-4D23-AB7A-0118DD1CD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93FFF-0A02-4E8B-A281-08D491DE2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236BA-B60C-4B62-9C33-7157C76A1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FFE45-BE55-4DE1-91E2-C5A3F33D9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A879A-1A78-4963-8557-4E819C211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0C54A-1E05-4603-8309-744487382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83704-4360-4FED-BD32-44F801153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1B5B8-6BF1-4ADE-9422-8DE1658E0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5FACB-C7AB-4603-93A1-6371E25790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A49A7-F4C0-4211-B0BF-257ED98FBB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ipe(left)"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1000"/>
                                        <p:tgtEl>
                                          <p:spTgt spid="55">
                                            <p:txEl>
                                              <p:pRg st="2" end="2"/>
                                            </p:txEl>
                                          </p:spTgt>
                                        </p:tgtEl>
                                      </p:cBhvr>
                                    </p:animEffect>
                                    <p:anim calcmode="lin" valueType="num">
                                      <p:cBhvr additive="repl">
                                        <p:cTn id="84"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20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