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0CFA1-74C4-4D3A-A218-044F511BA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882F1-7232-4125-A860-D99C8DCA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B5E55-71EA-4B2B-BA0B-F98B0271F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E66FE-C046-4324-BA20-6BC8307D5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EDB4B-C5B6-42B0-B5A1-02AA6CD4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CF532-03DC-4A70-9212-622864C14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4F247-0DDE-4210-8BBB-01FC78A87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D2211-36EE-40A1-9CCA-0E103D2DA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413B3-BA8F-4BC6-A54C-E2DF1C03D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70D50-6AC5-4948-8C06-61EDC499E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4222E-F495-4F80-A8BB-E35233E14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4079E-6B57-42B3-AB2D-5A1F4537C5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91836-A386-477D-B4B4-DE71125C6C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Effect filter="fade" transition="in">
                                      <p:cBhvr additive="repl">
                                        <p:cTn id="84" dur="1000"/>
                                        <p:tgtEl>
                                          <p:spTgt spid="55">
                                            <p:txEl>
                                              <p:pRg st="2" end="2"/>
                                            </p:txEl>
                                          </p:spTgt>
                                        </p:tgtEl>
                                      </p:cBhvr>
                                    </p:animEffect>
                                    <p:anim calcmode="lin" valueType="num">
                                      <p:cBhvr additive="repl">
                                        <p:cTn id="85"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