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545B9-5053-41D9-AD73-2ED19257E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C253F-D170-4182-9E8A-359831EAD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5F665-951C-43AA-977B-C4B7A75D8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BA53E-3E84-4410-96A9-8F73D380F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1C88E-F028-4C3E-92E9-AE69A6433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CD615-2337-41C0-82E8-890616C33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FD677-997A-49E6-8C6D-E08197C35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672A7-0252-47BA-B9C8-8E7AF02B5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DC67A-4B93-4869-B55C-6174DC3A4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FDDB1-D775-47B9-8C4C-0E890D6EE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60890-F07E-4F71-B901-5CB31A94D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0CEC3-861B-47DD-A615-F165BBEAF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965E-4DB3-4925-8498-ED6800D64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fade" transition="in">
                                      <p:cBhvr additive="repl">
                                        <p:cTn id="84" dur="2000"/>
                                        <p:tgtEl>
                                          <p:spTgt spid="5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fade" transition="in">
                                      <p:cBhvr additive="repl">
                                        <p:cTn id="89" dur="1000"/>
                                        <p:tgtEl>
                                          <p:spTgt spid="55">
                                            <p:txEl>
                                              <p:pRg st="3" end="3"/>
                                            </p:txEl>
                                          </p:spTgt>
                                        </p:tgtEl>
                                      </p:cBhvr>
                                    </p:animEffect>
                                    <p:anim calcmode="lin" valueType="num">
                                      <p:cBhvr additive="repl">
                                        <p:cTn id="90"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