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C3368-F1B6-4C7D-8C65-F792AB80D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B867A-FA45-4F82-B50E-D698A8B84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03FC3-32E6-43A9-BB9E-5E38F88EF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4A7E6-81B7-4AD4-9A1B-6AF409955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98623-110F-4E02-9A3E-7778E2F6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BE73B-1ADD-49AA-9BE5-6921D4D44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3210-AC70-41F5-AA48-92AD553E3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EC408-F815-4623-97CA-2D9D2A92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4DEE0-B4F8-42E8-BA28-3C0452DD9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F074-75D7-46B5-9909-9055BE2C3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D644-1A2C-4055-B7A7-E1E977EEA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E6E4-CCB9-425A-9F83-68182BC9D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DEBD-8750-448F-8514-4E5C55F77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9" dur="5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discrete" valueType="clr">
                                      <p:cBhvr additive="repl">
                                        <p:cTn id="91"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92" dur="80"/>
                                        <p:tgtEl>
                                          <p:spTgt spid="55">
                                            <p:txEl>
                                              <p:pRg st="3" end="3"/>
                                            </p:txEl>
                                          </p:spTgt>
                                        </p:tgtEl>
                                        <p:attrNameLst>
                                          <p:attrName>fillcolor</p:attrName>
                                        </p:attrNameLst>
                                      </p:cBhvr>
                                      <p:tavLst>
                                        <p:tav tm="0">
                                          <p:val>
                                            <p:strVal val="rgb(-103,51,51)"/>
                                          </p:val>
                                        </p:tav>
                                        <p:tav tm="50000">
                                          <p:val>
                                            <p:strVal val="rgb(-103,-103,0)"/>
                                          </p:val>
                                        </p:tav>
                                      </p:tavLst>
                                    </p:anim>
                                    <p:set>
                                      <p:cBhvr>
                                        <p:cTn id="93" dur="80"/>
                                        <p:tgtEl>
                                          <p:spTgt spid="55">
                                            <p:txEl>
                                              <p:pRg st="3" end="3"/>
                                            </p:txEl>
                                          </p:spTgt>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