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8AEA4-36A0-4ABC-A109-4E6CA01F2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A3BA-251A-45C0-A230-CD8CC28C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B7451-79B0-4D12-8FC3-504AE9AA7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3E744-350C-44E4-8513-7B40F634D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1A67-B151-40C0-84BE-7AEFBB54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8234-9A9B-4821-88C8-2BC19009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8B079-BB84-4853-9048-A1CA851A5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986BC-2732-4AEA-8D16-7D0847888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7DD5-D39E-4A9E-8EE7-322C561D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D967-41F0-4E9C-A445-958A0838B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397D-4B28-413C-B412-A613B00E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9564-1689-4F8C-A189-25AC45B62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102B-7DDA-4454-BCC6-AEEE5395F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1000"/>
                                        <p:tgtEl>
                                          <p:spTgt spid="55">
                                            <p:txEl>
                                              <p:pRg st="2" end="2"/>
                                            </p:txEl>
                                          </p:spTgt>
                                        </p:tgtEl>
                                      </p:cBhvr>
                                    </p:animEffect>
                                    <p:anim calcmode="lin" valueType="num">
                                      <p:cBhvr additive="repl">
                                        <p:cTn id="88"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discrete" valueType="clr">
                                      <p:cBhvr additive="repl">
                                        <p:cTn id="94"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55">
                                            <p:txEl>
                                              <p:pRg st="3" end="3"/>
                                            </p:txEl>
                                          </p:spTgt>
                                        </p:tgtEl>
                                        <p:attrNameLst>
                                          <p:attrName>fillcolor</p:attrName>
                                        </p:attrNameLst>
                                      </p:cBhvr>
                                      <p:tavLst>
                                        <p:tav tm="0">
                                          <p:val>
                                            <p:strVal val="rgb(-103,51,51)"/>
                                          </p:val>
                                        </p:tav>
                                        <p:tav tm="50000">
                                          <p:val>
                                            <p:strVal val="rgb(-103,-103,0)"/>
                                          </p:val>
                                        </p:tav>
                                      </p:tavLst>
                                    </p:anim>
                                    <p:set>
                                      <p:cBhvr>
                                        <p:cTn id="96" dur="80"/>
                                        <p:tgtEl>
                                          <p:spTgt spid="55">
                                            <p:txEl>
                                              <p:pRg st="3" end="3"/>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