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29141-0BBB-4472-80CE-7AD77F31C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EB37-AC79-406E-8F3A-243F7252D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D57DD-9A23-40B6-A4B4-740D8DEB0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2BBC3-B0B1-4960-9D2C-66E15E540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A268F-861C-4D27-ACD0-4844A046E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F12B9-7F3F-43A5-86E7-731F48A80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FDF93-5F39-420F-80C1-7BCB9C76E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525A8-F525-40BA-8D53-DE6156EAB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CF9C2-1853-4086-B096-962761D16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A432-B457-43CF-9291-E97F20ABE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A128-7762-462D-8BCE-5F1F0412C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420F-B51F-4ECB-95A4-1C8257088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8BB2-99EC-4019-ADB7-5AF283128E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800"/>
                                        <p:tgtEl>
                                          <p:spTgt spid="55">
                                            <p:txEl>
                                              <p:pRg st="3" end="3"/>
                                            </p:txEl>
                                          </p:spTgt>
                                        </p:tgtEl>
                                      </p:cBhvr>
                                    </p:animEffect>
                                    <p:anim calcmode="lin" valueType="num">
                                      <p:cBhvr additive="repl">
                                        <p:cTn id="93"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4"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5"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