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6F9A8-F5A1-4E8D-A4E8-C2BAA2A4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7D933-92B9-45B7-9B85-4E59E951E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227FA-6065-489B-A096-3C69EC6DD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23203-BBF6-41D5-9525-D509B7BFB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C8BDC-FD54-4D65-990A-68A440AB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B0B5-6DB1-43DA-A4C5-CB7A4BC2B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A1A67-49F4-4CCB-B18F-597BEBA1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AEB26-F315-43A8-A594-5F247E8D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7444-B78C-4282-8CE1-578D6FD3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CC43-3113-4036-A59F-4AA7BCD0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945A3-EE54-4E79-8DB5-46ECBA0B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AE22-8743-4682-A977-EFE6BCC8C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A931-D017-48B2-B307-CF917A2FB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
                                        <p:tgtEl>
                                          <p:spTgt spid="55">
                                            <p:txEl>
                                              <p:pRg st="2" end="2"/>
                                            </p:txEl>
                                          </p:spTgt>
                                        </p:tgtEl>
                                      </p:cBhvr>
                                    </p:animEffect>
                                    <p:anim calcmode="lin" valueType="num">
                                      <p:cBhvr additive="repl">
                                        <p:cTn id="86"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plus(in)"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