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DAA2E-6A92-44AA-ADA5-52B8E8DF4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0E5F2-0406-4815-802F-7BAA9B04F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CF6C4-F358-41E5-88AC-CAF7F92FE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48C34-1975-4344-A213-FFD2C071F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70184-64D1-42DC-BD80-C6C7F8788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6CE2F-6551-4353-B1EF-AF3CF76A0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70898-0EF5-4276-8E6A-8189D42D3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9C54E-A016-4C14-95F4-94BFB2406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50EDB-0164-4727-9B3F-9407BC6CE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24BFC-5511-447E-8CB9-78D4A4327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965FF-34B5-49F2-8C30-5A5D988DD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E0197-2D86-475C-B78A-F471EBDBF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7491-EE2E-4D2D-B7B2-19660FA6D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4" dur="15000" fill="hold"/>
                                        <p:tgtEl>
                                          <p:spTgt spid="55">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wedge" transition="in">
                                      <p:cBhvr additive="repl">
                                        <p:cTn id="89" dur="20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