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32588-61D6-4F5B-B4A0-3DAD31BE4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ECDA6-8C36-4DDB-839E-74A927AAF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8CD25-B776-4F84-BFDE-E40F4BC6B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A0029-AF7D-4B01-A2E6-AB2D62E78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0CBA1-6D5A-4019-85CC-DCC1CC27F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8F8F1-85E9-48E7-81FA-2C7329B59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EACBA-2B45-42A2-855B-E407B4604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733D4-7408-4B9E-BFB7-189AF2456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1812D-C0A8-4959-9A76-E2454D932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CC78A-F8C8-411F-92F0-7D498FD1B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AE2D3-14A5-4257-9755-70F634925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F49CC-8E2F-463C-A8C7-A56163D74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C775-4271-466E-B9F2-45B3F05117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5" dur="1000" fill="hold"/>
                                        <p:tgtEl>
                                          <p:spTgt spid="55">
                                            <p:txEl>
                                              <p:pRg st="2" end="2"/>
                                            </p:txEl>
                                          </p:spTgt>
                                        </p:tgtEl>
                                        <p:attrNameLst>
                                          <p:attrName>r</p:attrName>
                                        </p:attrNameLst>
                                      </p:cBhvr>
                                      <p:tavLst>
                                        <p:tav tm="0">
                                          <p:val>
                                            <p:strVal val="90"/>
                                          </p:val>
                                        </p:tav>
                                        <p:tav tm="100000">
                                          <p:val>
                                            <p:strVal val="0"/>
                                          </p:val>
                                        </p:tav>
                                      </p:tavLst>
                                    </p:anim>
                                    <p:animEffect filter="fade" transition="in">
                                      <p:cBhvr additive="repl">
                                        <p:cTn id="86" dur="1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diamond(out)" transition="in">
                                      <p:cBhvr additive="repl">
                                        <p:cTn id="91" dur="20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