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7190E-6776-48F5-90A0-84CE80CB1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051FB-E360-4E44-9130-775B0EB2C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7B867-A9E7-456E-AFBD-8BAA947C2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09E73-0740-4109-B978-92B6CB00D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33EBB-58C4-477F-AFF2-C23894096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A5711-44AB-447D-A794-27A644447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04AC6-16CF-43D1-91F4-1530C9173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5013C-D7B3-4648-9C38-6849CC3E9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CFBE2-15FF-4D5B-8AEB-C0CF0FCBE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5D025-E02A-4B00-A98F-B4E7ABE0E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51A0B-1BC4-4C25-AAFA-034ADD58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15C24-9F4B-4F7C-9952-BABD37FBF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74E2-AF58-48AF-8602-16CE2CB4B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discrete" valueType="clr">
                                      <p:cBhvr additive="repl">
                                        <p:cTn id="86"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55">
                                            <p:txEl>
                                              <p:pRg st="2" end="2"/>
                                            </p:txEl>
                                          </p:spTgt>
                                        </p:tgtEl>
                                        <p:attrNameLst>
                                          <p:attrName>fillcolor</p:attrName>
                                        </p:attrNameLst>
                                      </p:cBhvr>
                                      <p:tavLst>
                                        <p:tav tm="0">
                                          <p:val>
                                            <p:strVal val="rgb(-103,51,51)"/>
                                          </p:val>
                                        </p:tav>
                                        <p:tav tm="50000">
                                          <p:val>
                                            <p:strVal val="rgb(-103,-103,0)"/>
                                          </p:val>
                                        </p:tav>
                                      </p:tavLst>
                                    </p:anim>
                                    <p:set>
                                      <p:cBhvr>
                                        <p:cTn id="88" dur="80"/>
                                        <p:tgtEl>
                                          <p:spTgt spid="55">
                                            <p:txEl>
                                              <p:pRg st="2" end="2"/>
                                            </p:txEl>
                                          </p:spTgt>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