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D7503-EE5E-429A-B8B1-C9EA947B9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A8880-DA55-48A6-97C6-0840B53D5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7B5A2-AD69-45C0-88E3-184C2346B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80500-8CFC-4FAE-882E-C9C6C6EE3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8830D-2903-4486-8B48-AF0E94258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0A137-A447-4446-B6BA-6DD2A6031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15482-084E-4718-8A20-6574B284A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F1C44-FED2-4B6D-82D6-612A3E3F2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2B823-7A94-4909-9F98-6595CCD6C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8F519-4AA6-430E-A7B0-AEEF706C1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35136-28BA-4A60-931E-424ACED13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206FE-FE2B-42F2-90A9-B89770DD8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38AF8-DE0A-46E9-9E53-C582D6B864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3" dur="15000" fill="hold"/>
                                        <p:tgtEl>
                                          <p:spTgt spid="55">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