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8CB93-85FF-4DB4-8520-FCC349DD1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8CA3-8D02-4F24-AF5B-26DD2BE08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DC01-DFBC-484B-ADAF-A43FBD431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DB0E2-F5F9-4C5C-A68B-3FA2FB2D8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F487F-6620-4976-BC51-BBDF358F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E6D6-76A2-4E83-8073-37DD7451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7BF1-F8F1-4EDB-9226-26AE7940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DB9B6-CD67-40F6-A182-0DE984FD7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A3AE0-1A52-4082-B3A1-DEF56573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26C3-582B-4EEB-9E6C-B32E8B74F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7C3C-CD35-45FA-98F3-7B787454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B8BC-6D0F-4184-B660-CD26FBBC2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1A2A-6B0E-4F67-9DF6-DCDBB9B63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9" dur="5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set>
                                      <p:cBhvr>
                                        <p:cTn id="84" dur="455" fill="hold">
                                          <p:stCondLst>
                                            <p:cond delay="0"/>
                                          </p:stCondLst>
                                        </p:cTn>
                                        <p:tgtEl>
                                          <p:spTgt spid="55">
                                            <p:txEl>
                                              <p:pRg st="2" end="2"/>
                                            </p:txEl>
                                          </p:spTgt>
                                        </p:tgtEl>
                                        <p:attrNameLst>
                                          <p:attrName>r</p:attrName>
                                        </p:attrNameLst>
                                      </p:cBhvr>
                                      <p:to>
                                        <p:strVal val="-45"/>
                                      </p:to>
                                    </p:set>
                                    <p:anim calcmode="lin" valueType="num">
                                      <p:cBhvr additive="repl">
                                        <p:cTn id="85"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6"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7"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