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EE3DD-1B77-4BEF-85DE-030EE9125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B5F62-3878-4DF2-B76E-E9BBD46C1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8FF16-1039-4649-87BA-583888FD3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0F305-D8AA-4C5C-B150-0B2945531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F80A1-7708-4CF6-8639-1BF66EC7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B4BBD-1A01-438D-8523-89D3387FF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A62F0-AC7E-497A-81BE-E0BA6F532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3572-78FB-4537-95B0-BB721A764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A487-F5E7-461E-8B15-5D3F7C84E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D4D5-3BC1-49B6-A1B4-B12366F2D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B331-2DF5-44D3-8455-3AF831CFE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BFDE-C5B2-4F8D-815E-6C4F5421A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3BD1-C061-4DD7-8F4E-2F4A38A0EE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anim calcmode="lin" valueType="num">
                                      <p:cBhvr additive="repl">
                                        <p:cTn id="87"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