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80746-A44E-4F61-9CA5-98204774C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1374-0EBF-492F-AC03-F724B3B9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D03F5-AD71-4BB6-A959-1125C31B1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3DA37-EF57-44DC-BDE2-610F9F61C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2343-FC64-4BB5-98AF-B60FCFC3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7328C-7549-4C6A-A98D-C5A758FBB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AAD7C-BF5C-4BEE-8F55-E5167F7C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CBFC2-5103-4B55-96D9-2D99EC4D2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1713A-5BB8-4747-B020-229998D0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901D-5001-49B0-875D-5359F3F7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EB59E-8014-4178-9CA4-0461F31AC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19FD-50A2-422F-9777-5E3EF9E90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D135-7F59-48B5-B058-17373E581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set>
                                      <p:cBhvr>
                                        <p:cTn id="85" dur="455" fill="hold">
                                          <p:stCondLst>
                                            <p:cond delay="0"/>
                                          </p:stCondLst>
                                        </p:cTn>
                                        <p:tgtEl>
                                          <p:spTgt spid="55">
                                            <p:txEl>
                                              <p:pRg st="2" end="2"/>
                                            </p:txEl>
                                          </p:spTgt>
                                        </p:tgtEl>
                                        <p:attrNameLst>
                                          <p:attrName>r</p:attrName>
                                        </p:attrNameLst>
                                      </p:cBhvr>
                                      <p:to>
                                        <p:strVal val="-45"/>
                                      </p:to>
                                    </p:set>
                                    <p:anim calcmode="lin" valueType="num">
                                      <p:cBhvr additive="repl">
                                        <p:cTn id="86"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7"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8"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9"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anim calcmode="lin" valueType="num">
                                      <p:cBhvr additive="repl">
                                        <p:cTn id="9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