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4ED23-A7AE-4E10-A1E5-8B5405211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6CC89-9EC0-4230-8C88-7B8AEB3B2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66F71-E122-45AA-A654-8380A398E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CA5AF-893B-49BC-A3A2-804CB1A26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D51D5-6921-4CE4-8A9E-0C30E92F9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839AC-70C4-4574-9F49-D50CEB147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D8EC0-9064-41AF-8312-164B8F131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9F0C2-400A-4D62-84F0-E15A5FF37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6C386-8966-45A4-A39E-659D84BC2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15EC5-501B-449C-BEFA-9ED81E0DF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B03A4-AAD0-4724-80B2-66B9AD3EB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AA5B3-F146-4F95-A6BF-874BC7480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90E1-F060-4C39-A50E-101B7BDA7A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5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15000" fill="hold"/>
                                        <p:tgtEl>
                                          <p:spTgt spid="55">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500" fill="hold"/>
                                        <p:tgtEl>
                                          <p:spTgt spid="5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5" dur="500" fill="hold"/>
                                        <p:tgtEl>
                                          <p:spTgt spid="5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6" dur="500" fill="hold"/>
                                        <p:tgtEl>
                                          <p:spTgt spid="5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7"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Scale>
                                      <p:cBhvr>
                                        <p:cTn id="92" dur="1000" fill="hold">
                                          <p:stCondLst>
                                            <p:cond delay="0"/>
                                          </p:stCondLst>
                                        </p:cTn>
                                        <p:tgtEl>
                                          <p:spTgt spid="5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 dur="1000" fill="hold">
                                          <p:stCondLst>
                                            <p:cond delay="0"/>
                                          </p:stCondLst>
                                        </p:cTn>
                                        <p:tgtEl>
                                          <p:spTgt spid="55">
                                            <p:txEl>
                                              <p:pRg st="3" end="3"/>
                                            </p:txEl>
                                          </p:spTgt>
                                        </p:tgtEl>
                                      </p:cBhvr>
                                    </p:animMotion>
                                    <p:animEffect filter="fade"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