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24715-57D9-4BF8-9832-B1BC817FD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80A02-F872-4FD7-A0B6-348403600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17F13-2376-4F7F-A438-71CFB513F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642CE-BADC-404E-A6F2-D4BF5C00F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C7316-BEBD-482A-9B71-AAA32160A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FC286-4A81-4942-88DE-58859553C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30EB4-A605-466C-8FAC-AC0DC8767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FF903-078E-4130-A1D8-1BDCD38E2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D132F-5BFD-4893-88A3-76ADAD452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5857B-AB99-4A2E-B757-D241BD381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BC991-5A47-49F7-B7F4-F3E9B792F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E0B16-54C8-4C67-B734-809A22DCA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F04D4-8313-484C-9703-88454922A5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Effect filter="fade" transition="in">
                                      <p:cBhvr additive="repl">
                                        <p:cTn id="82" dur="1000"/>
                                        <p:tgtEl>
                                          <p:spTgt spid="55">
                                            <p:txEl>
                                              <p:pRg st="2" end="2"/>
                                            </p:txEl>
                                          </p:spTgt>
                                        </p:tgtEl>
                                      </p:cBhvr>
                                    </p:animEffect>
                                    <p:anim calcmode="lin" valueType="num">
                                      <p:cBhvr additive="repl">
                                        <p:cTn id="83" dur="1000" fill="hold"/>
                                        <p:tgtEl>
                                          <p:spTgt spid="55">
                                            <p:txEl>
                                              <p:pRg st="2" end="2"/>
                                            </p:txEl>
                                          </p:spTgt>
                                        </p:tgtEl>
                                        <p:attrNameLst>
                                          <p:attrName>ppt_x</p:attrName>
                                        </p:attrNameLst>
                                      </p:cBhvr>
                                      <p:tavLst>
                                        <p:tav tm="0">
                                          <p:val>
                                            <p:strVal val="#ppt_x-.1"/>
                                          </p:val>
                                        </p:tav>
                                        <p:tav tm="100000">
                                          <p:val>
                                            <p:strVal val="#ppt_x"/>
                                          </p:val>
                                        </p:tav>
                                      </p:tavLst>
                                    </p:anim>
                                    <p:anim calcmode="lin" valueType="num">
                                      <p:cBhvr additive="repl">
                                        <p:cTn id="84" dur="10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1000" fill="hold"/>
                                        <p:tgtEl>
                                          <p:spTgt spid="5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 dur="1000" fill="hold"/>
                                        <p:tgtEl>
                                          <p:spTgt spid="55">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1" dur="10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2" dur="1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