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0FFFD-8C82-4310-9864-6A98BCF38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661ED-748C-40CF-B28C-928146359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F50C8-DB77-44AE-BCB1-1F568A69A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11257-65FA-48B0-88C2-1BD3D1488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4BFD4-FD8A-40AE-B173-FF6BCECB8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D0079-56F9-4A61-AAFE-4BD224191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369AD-0E8C-45B2-9244-769A6D71C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BEA35-011F-4A2D-BD3A-8E02D209F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E0555-ED8D-43FF-90B2-284F05F37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291F5-C083-407F-B5D8-8027459E8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CF44F-DC5D-4FB1-988F-AE5642057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94297-512C-4BD3-9535-B4FCA2EC7A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41665-4469-44D7-8DB0-33B2CC11AB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500" fill="hold"/>
                                        <p:tgtEl>
                                          <p:spTgt spid="55">
                                            <p:txEl>
                                              <p:pRg st="1" end="1"/>
                                            </p:txEl>
                                          </p:spTgt>
                                        </p:tgtEl>
                                        <p:attrNameLst>
                                          <p:attrName>r</p:attrName>
                                        </p:attrNameLst>
                                      </p:cBhvr>
                                      <p:tavLst>
                                        <p:tav tm="0">
                                          <p:val>
                                            <p:strVal val="360"/>
                                          </p:val>
                                        </p:tav>
                                        <p:tav tm="100000">
                                          <p:val>
                                            <p:strVal val="0"/>
                                          </p:val>
                                        </p:tav>
                                      </p:tavLst>
                                    </p:anim>
                                    <p:animEffect filter="fade" transition="in">
                                      <p:cBhvr additive="repl">
                                        <p:cTn id="81" dur="5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7"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8" dur="5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plus(in)" transition="in">
                                      <p:cBhvr additive="repl">
                                        <p:cTn id="93" dur="2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