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0E245-5582-4C50-9449-562FF9A5E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B0D19-8081-4BC4-B0A1-EA9CBB3F3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5ADFF-C955-42FF-9A41-7C9DE1C4C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D088A-CF04-423D-81F8-B57781C89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4E9BF-C1C3-4044-B711-F03C089CB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73E9B-D0BD-4941-8BB4-6CB9FB158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09458-E556-41DD-81B8-93EA54FC7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6BCF1-87AD-4FD8-ABFD-22B10FC0B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5D086-0A34-4952-BF78-D4EEF2E67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6AADF-72A7-4CC0-B5EF-6D16975B4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6029B-A5F6-4EBD-AABB-3FEC56159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54C0A-6A44-4290-8930-BCC23BC1EC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43D3-8EB6-433B-8DC9-9326D0E6B0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1)"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5"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6" dur="1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wedge" transition="in">
                                      <p:cBhvr additive="repl">
                                        <p:cTn id="91" dur="20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