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9DEAE-886D-46D5-99A9-88F468A87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5A90F-F638-4B20-8299-1EF9B765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BE92F-1DCF-41D7-9B3B-37793F34D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FEFE1-0E74-4FE1-A2FF-412A60A17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133D-BB5A-4153-9769-BEC2E186F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DA81-C8A7-451A-BDBB-0B49D4BAD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7319-4699-4BE1-86BD-DE1EB09F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86DE6-79C1-41C0-90DE-E0DCA27B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6FA8-B4AB-4C9E-92B6-FBDEF5964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AEA3-5BF6-4262-A4C3-68A0BEC5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4E91-27A3-485A-A7A7-967C1C09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AB2C2-AF82-4D3E-B632-F6256C87B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4E16-8497-4A47-A56F-A365B0FD5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set>
                                      <p:cBhvr>
                                        <p:cTn id="93" dur="455" fill="hold">
                                          <p:stCondLst>
                                            <p:cond delay="0"/>
                                          </p:stCondLst>
                                        </p:cTn>
                                        <p:tgtEl>
                                          <p:spTgt spid="55">
                                            <p:txEl>
                                              <p:pRg st="3" end="3"/>
                                            </p:txEl>
                                          </p:spTgt>
                                        </p:tgtEl>
                                        <p:attrNameLst>
                                          <p:attrName>r</p:attrName>
                                        </p:attrNameLst>
                                      </p:cBhvr>
                                      <p:to>
                                        <p:strVal val="-45"/>
                                      </p:to>
                                    </p:set>
                                    <p:anim calcmode="lin" valueType="num">
                                      <p:cBhvr additive="repl">
                                        <p:cTn id="94"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5"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6"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7"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