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ACF0D-B65D-4D6E-8C2E-83EEA0593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383AD-BF97-41CD-B053-42C4B055E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43A1E-995A-4754-A805-B1F89E41E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1BC81-7EF1-44CC-9BA8-4C4BA354B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AC4DA-7D1C-44C5-850F-5188F4B36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20F2C-126E-44DC-B9F8-0FE6077DE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4F5F5-145F-4D52-B3B0-8AAACEA47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AE9DF-6181-4CAF-AFBE-E0D00E92D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79010-96C5-4678-896E-7D94067B4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D62A0-5A50-4CAE-9052-9DF476A2B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0DB87-CACA-4522-BC16-3820281AC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6F73A-222B-4EB8-B5C9-4C5B49C84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E05D-1A07-462E-9B7D-E958E1CC8B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9" dur="500" fill="hold"/>
                                        <p:tgtEl>
                                          <p:spTgt spid="5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0" dur="500" fill="hold"/>
                                        <p:tgtEl>
                                          <p:spTgt spid="5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2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1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2" dur="15000" fill="hold"/>
                                        <p:tgtEl>
                                          <p:spTgt spid="55">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