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3EBAA-4776-49F4-AE2A-8C2122DFF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1D4DF-C028-48C2-A622-6030774B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780E3-5A57-47DE-AE51-8A2217C48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B7D0C-B959-4A27-926C-BED9EE1EB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D8A45-D497-4B91-B6A8-036CFD694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E7EA6-E937-42A5-84D9-8708D2B5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88777-AB2E-4DAC-BA5B-F2D9208C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A6D5A-42A0-4000-BBE2-D0C05A401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AD43-E17A-4773-9CBF-B6C52B015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0A3E-8500-4372-8C9E-006B4EF38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C1AF-B79B-4472-980A-43B4D5C7D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6249-8A5D-495B-BF72-F6AB8380D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766C-C8E9-4532-B015-9468E2552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0" fill="hold"/>
                                        <p:tgtEl>
                                          <p:spTgt spid="55">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4"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