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BC785-909D-4538-BE24-E0055C6AD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941B2-BBE4-4FDE-AF95-9F102C46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CE557-CC73-490D-A580-298084E13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3338-C70E-44A5-ACC2-E7BFCF07B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E082-ACB0-4C55-A810-EACAC0E0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7669-5AD4-40DA-B6C6-AC839A33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EF04-8FC5-43BB-8C4A-264A637E8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9D3F0-0133-441F-8156-F6F49DE8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5A98-A57F-4BCB-8376-B78BB41F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4447-364A-4E29-9E4A-3BC6F5F2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FB5A-B9C2-4F78-9048-10A9DE6E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D795-A19C-467D-B90B-D77112CCD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F7FE-E5EA-4A3C-A5AA-93445DD61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1000"/>
                                        <p:tgtEl>
                                          <p:spTgt spid="55">
                                            <p:txEl>
                                              <p:pRg st="3" end="3"/>
                                            </p:txEl>
                                          </p:spTgt>
                                        </p:tgtEl>
                                      </p:cBhvr>
                                    </p:animEffect>
                                    <p:anim calcmode="lin" valueType="num">
                                      <p:cBhvr additive="repl">
                                        <p:cTn id="96"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7"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