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3CF39-FF56-4857-9338-66C5449FA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671C4-9BE3-4F30-A2C5-9D17FAD52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282E9-E807-47B1-A15C-422753DA1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1228C-93F7-48CA-B878-895072A02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C4E62-A569-4214-AE7D-A28DBD407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16192-A174-48B5-84B8-AD96B8B14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778D2-A4B4-4A13-9324-CCB327806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31810-AD45-4E5C-B2E8-06C6451D3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16D49-1F78-4885-8393-E31FC3FD1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72F0B-1894-4B1F-B6D6-978A8935A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97A99-714C-4271-AD38-6769F6C4F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96200-6E8E-47E4-9A83-DADA8D148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2ABC-95A6-49B2-9E27-0F0CE359FC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plus(in)" transition="in">
                                      <p:cBhvr additive="repl">
                                        <p:cTn id="90" dur="2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