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F2AA5-D973-46E9-B298-FFE508BE4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00605-F8B1-455F-8BE2-B354DB4AD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52B3E-C530-4DA8-A69E-4E97B9BBC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E7CF1-7EA9-43AE-B59C-3148C5FA4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009B9-4C71-4E90-ABDF-DA2BD4253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43F54-64EB-4C78-A58A-946B81A7E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DDDBE-AEB4-44B6-8B92-2A594CDB4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402BF-6F99-4885-97C8-D07220ED4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27703-009A-4399-BEE9-71C0D32DC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97C32-C158-424C-8A0A-E748700E8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BEAEC-2A8E-4ACF-8A29-E21A71AD5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01864-7779-4358-839A-DBEF2A04B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03BE-C1B5-4CA9-B173-E3762CCA23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55">
                                            <p:txEl>
                                              <p:pRg st="1" end="1"/>
                                            </p:txEl>
                                          </p:spTgt>
                                        </p:tgtEl>
                                        <p:attrNameLst>
                                          <p:attrName>ppt_y</p:attrName>
                                        </p:attrNameLst>
                                      </p:cBhvr>
                                      <p:tavLst>
                                        <p:tav tm="0">
                                          <p:val>
                                            <p:strVal val="#ppt_y"/>
                                          </p:val>
                                        </p:tav>
                                        <p:tav tm="100000">
                                          <p:val>
                                            <p:strVal val="#ppt_y"/>
                                          </p:val>
                                        </p:tav>
                                      </p:tavLst>
                                    </p:anim>
                                    <p:animEffect filter="wipe(right)"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w</p:attrName>
                                        </p:attrNameLst>
                                      </p:cBhvr>
                                      <p:tavLst>
                                        <p:tav tm="0">
                                          <p:val>
                                            <p:strVal val="#ppt_w+.3"/>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