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0DE4CC-F666-43FF-B878-6FBBA8E03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4B665-1659-4D2C-9230-79C107F04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96697-AD81-4317-9930-524B3037C4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4FDE2-EB43-4965-9BAC-CB30067C9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F9992-4132-4763-B52B-EB44D600F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2774E-EE24-4DBF-A6FB-028C8352C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A4590-D09C-4D36-B08F-3FAE678A6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AD53F-8E2F-4831-9035-38ABE1EDA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272CD-74A5-4C07-A870-6E9ABEFB6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6C436-6E9A-4066-A561-ABC813EA6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E3959-81C3-4A80-8A72-7686796F9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88380-9579-4FD4-A852-352A1D7ED0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BFDC5-008B-4B01-B0AB-C082DAAE6A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Scale>
                                      <p:cBhvr>
                                        <p:cTn id="85" dur="1000" fill="hold">
                                          <p:stCondLst>
                                            <p:cond delay="0"/>
                                          </p:stCondLst>
                                        </p:cTn>
                                        <p:tgtEl>
                                          <p:spTgt spid="5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6" dur="1000" fill="hold">
                                          <p:stCondLst>
                                            <p:cond delay="0"/>
                                          </p:stCondLst>
                                        </p:cTn>
                                        <p:tgtEl>
                                          <p:spTgt spid="55">
                                            <p:txEl>
                                              <p:pRg st="2" end="2"/>
                                            </p:txEl>
                                          </p:spTgt>
                                        </p:tgtEl>
                                      </p:cBhvr>
                                    </p:animMotion>
                                    <p:animEffect filter="fade" transition="in">
                                      <p:cBhvr additive="repl">
                                        <p:cTn id="87" dur="1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wipe(left)" transition="in">
                                      <p:cBhvr additive="repl">
                                        <p:cTn id="92" dur="5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