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731DD-7CCE-478F-8616-D28B04B0D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9B6C0-20A0-4844-A0AC-CAD58A975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BE714-800B-4975-BEC0-603279B81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B9112-BEE1-4364-8B99-F86AD77BE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1D6CF-A4F1-404B-899D-47EE614A0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AFA33-FB50-4EF8-B36E-E919DF7A7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540AF-D59E-4011-9C39-C2841B47A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39EC0-B57B-4340-A071-761ACD79E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46484-DFAB-4669-9FED-18B809940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407F-5F6F-4DA2-ADD7-9B0D08782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1FE21-1A89-47CF-A99E-F129158A8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5719-65BF-49E9-BC58-968AA3D77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189E-E1E6-4F8D-A4A2-219BB8241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Effect filter="fade" transition="in">
                                      <p:cBhvr additive="repl">
                                        <p:cTn id="90" dur="2000"/>
                                        <p:tgtEl>
                                          <p:spTgt spid="55">
                                            <p:txEl>
                                              <p:pRg st="2" end="2"/>
                                            </p:txEl>
                                          </p:spTgt>
                                        </p:tgtEl>
                                      </p:cBhvr>
                                    </p:animEffect>
                                    <p:anim calcmode="lin" valueType="num">
                                      <p:cBhvr additive="repl">
                                        <p:cTn id="91"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 calcmode="lin" valueType="num">
                                      <p:cBhvr additive="repl">
                                        <p:cTn id="97"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8"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9" dur="500"/>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