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A012F-19D0-4FAE-AFD4-F8B1E7979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A7297-6923-4A74-ADFA-A280CCA5E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ADAE6-D800-4CB0-8F35-5F64555BA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4E1A0-BAED-42F7-AD8D-B0DBA533C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F0569-25D5-4545-A7E2-73CDC06CC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BE8E9-F414-468E-81B7-3CB2020BB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54990-5BD0-4767-817D-E92BADFDF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71330-EBF4-4E8D-9FFF-82893979C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9E242-2CC2-45B4-8458-59EA74AC1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88A14-F3F2-41B1-A2EA-714DB870A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B03A4-F27B-4CE6-9ECF-409CCEBAB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73582-B024-4C42-9930-F2A323875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12924-277F-4B85-9287-4F3070628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DDBF2-7F12-49BE-918C-E17F74F51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15C0A-358C-447D-B2B7-A0025BF91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157A5-4D11-4243-B7FD-241313C4E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10664-3BF9-41A1-A3DE-894762C60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56184-2791-48C0-BE9C-7187ADB3E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21510-63FF-41F6-8121-B8BF00DA0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C8CB0-89C0-4960-9ABC-1E20348BB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5CAC7-EE92-4FCA-B251-48CAC508B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21C11-2F83-4813-B9F9-51E0F3294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F8691-8D37-4855-83FA-41392BAA2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D55EA-8DE3-4D40-A163-5A7829525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5AC9D-C483-4CF4-ACC1-CF4E6CB1B5DE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BA46A-5955-437D-B2D7-3EEC5BBDC89F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Box 8"/>
          <p:cNvSpPr/>
          <p:nvPr/>
        </p:nvSpPr>
        <p:spPr>
          <a:xfrm>
            <a:off x="811080" y="2286000"/>
            <a:ext cx="73152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2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1413000"/>
            <a:ext cx="80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Footer Placeholder 3"/>
          <p:cNvSpPr/>
          <p:nvPr/>
        </p:nvSpPr>
        <p:spPr>
          <a:xfrm>
            <a:off x="304920" y="6213600"/>
            <a:ext cx="43383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Date Placeholder 6"/>
          <p:cNvSpPr/>
          <p:nvPr/>
        </p:nvSpPr>
        <p:spPr>
          <a:xfrm>
            <a:off x="5270400" y="6237360"/>
            <a:ext cx="3046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"/>
          <p:cNvSpPr/>
          <p:nvPr/>
        </p:nvSpPr>
        <p:spPr>
          <a:xfrm>
            <a:off x="250920" y="811080"/>
            <a:ext cx="8064360" cy="1432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000" spc="-1" strike="noStrike">
                <a:solidFill>
                  <a:srgbClr val="ff0000"/>
                </a:solidFill>
                <a:latin typeface="Garamond"/>
                <a:cs typeface="PT Bold Heading"/>
              </a:rPr>
              <a:t>ت</a:t>
            </a:r>
            <a:r>
              <a:rPr b="1" lang="ar-KW" sz="2000" spc="-1" strike="noStrike">
                <a:solidFill>
                  <a:srgbClr val="ffffff"/>
                </a:solidFill>
                <a:latin typeface="Garamond"/>
                <a:cs typeface="PT Bold Heading"/>
              </a:rPr>
              <a:t>ه</a:t>
            </a:r>
            <a:r>
              <a:rPr b="1" lang="ar-KW" sz="2000" spc="-1" strike="noStrike">
                <a:solidFill>
                  <a:srgbClr val="009900"/>
                </a:solidFill>
                <a:latin typeface="Garamond"/>
                <a:cs typeface="PT Bold Heading"/>
              </a:rPr>
              <a:t>نئة</a:t>
            </a:r>
            <a:r>
              <a:rPr b="1" lang="ar-KW" sz="2000" spc="-1" strike="noStrike">
                <a:solidFill>
                  <a:srgbClr val="ffffff"/>
                </a:solidFill>
                <a:latin typeface="Garamond"/>
                <a:ea typeface="PT Bold Heading"/>
              </a:rPr>
              <a:t> 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8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يسر موقع كلمات وعبارات تهنئة الشعب الكويتي الكريم ، بمناسبة العيد الوطني لدولة الكويت وعيد التحرير وندعو الله أن يحفظ الكويت من كل مكروه .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9645480" y="46080"/>
            <a:ext cx="4762800" cy="36766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9645480" y="46080"/>
            <a:ext cx="4762800" cy="36766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179280" y="2349360"/>
            <a:ext cx="82803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8T06:42:19Z</dcterms:created>
  <dc:creator>Al-Ajmi DN (Dhari) TID</dc:creator>
  <dc:description/>
  <dc:language>en-US</dc:language>
  <cp:lastModifiedBy>abdallah</cp:lastModifiedBy>
  <dcterms:modified xsi:type="dcterms:W3CDTF">2018-02-05T14:40:19Z</dcterms:modified>
  <cp:revision>52</cp:revision>
  <dc:subject/>
  <dc:title>PowerPoint Presentation</dc:title>
</cp:coreProperties>
</file>