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1C06-FBDB-45BE-A8EB-2D2FA6F81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DCEC-28E4-4B0F-86C8-585589F06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8E4E-AF02-469C-B7E6-50578505B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D857-E6CD-46AC-98BF-25031A9E4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A799B-5EA1-4C78-AFE7-A16B6AA2F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45903-F233-49F0-926D-AEAE35A44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76240-160E-44A4-9F17-62A237420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5AF52-050C-41B5-9C55-65391C03C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FF70A-F527-4C99-844C-43BBA4B72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CAB92-7120-4043-8AFC-8158C9189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823F1-0A70-4B43-B903-1351EB464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01A7-7F96-4226-80E6-750CE9EEA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3AB78-B261-4566-9C10-8A8067E95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D8A27-89FD-4F4F-9F26-BDC2CA158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A0873-68EA-453B-9DDB-090929CF9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74D7D-33E0-459B-BED2-428442F92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9D50C-BBFA-4B2E-AC1D-7658F73F4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8497-48A2-45D0-8234-DA9859FCE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339B-81CE-42A5-A1B4-4E1C19E43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E309-2283-42A0-81B9-A8101935A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3E0F-6FFA-438A-8DB9-97031ED6F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3495-72DF-46FD-8E06-BA3E736F8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6057-6FD1-42C4-A961-E16100694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A63B-B013-4601-B9D3-FBDF7AFC8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ABB11-8D5E-4AC2-8A38-9ED126A258BE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3C3B2-A8E2-4848-ACD9-CF15DAE949D9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8"/>
          <p:cNvSpPr/>
          <p:nvPr/>
        </p:nvSpPr>
        <p:spPr>
          <a:xfrm>
            <a:off x="811080" y="2286000"/>
            <a:ext cx="73152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41300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Footer Placeholder 3"/>
          <p:cNvSpPr/>
          <p:nvPr/>
        </p:nvSpPr>
        <p:spPr>
          <a:xfrm>
            <a:off x="304920" y="6213600"/>
            <a:ext cx="43383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Date Placeholder 6"/>
          <p:cNvSpPr/>
          <p:nvPr/>
        </p:nvSpPr>
        <p:spPr>
          <a:xfrm>
            <a:off x="5270400" y="6237360"/>
            <a:ext cx="304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811080"/>
            <a:ext cx="8064360" cy="1432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000" spc="-1" strike="noStrike">
                <a:solidFill>
                  <a:srgbClr val="ff0000"/>
                </a:solidFill>
                <a:latin typeface="Garamond"/>
                <a:cs typeface="PT Bold Heading"/>
              </a:rPr>
              <a:t>ت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cs typeface="PT Bold Heading"/>
              </a:rPr>
              <a:t>ه</a:t>
            </a:r>
            <a:r>
              <a:rPr b="1" lang="ar-KW" sz="2000" spc="-1" strike="noStrike">
                <a:solidFill>
                  <a:srgbClr val="009900"/>
                </a:solidFill>
                <a:latin typeface="Garamond"/>
                <a:cs typeface="PT Bold Heading"/>
              </a:rPr>
              <a:t>نئة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ea typeface="PT Bold Heading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يسر موقع كلمات وعبارات تهنئة الشعب الكويتي الكريم ، بمناسبة العيد الوطني لدولة الكويت وعيد التحرير وندعو الله أن يحفظ الكويت من كل مكروه .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79280" y="2349360"/>
            <a:ext cx="8280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06:42:19Z</dcterms:created>
  <dc:creator>Al-Ajmi DN (Dhari) TID</dc:creator>
  <dc:description/>
  <dc:language>en-US</dc:language>
  <cp:lastModifiedBy>abdallah</cp:lastModifiedBy>
  <dcterms:modified xsi:type="dcterms:W3CDTF">2018-02-05T14:40:19Z</dcterms:modified>
  <cp:revision>52</cp:revision>
  <dc:subject/>
  <dc:title>PowerPoint Presentation</dc:title>
</cp:coreProperties>
</file>