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C143A-AE21-4DA3-BAE5-8C89334D59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4D340-6DB4-4AE6-A548-6F19888D3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F5CD-AC85-4529-B006-B48342E919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CFA66-E945-4ACD-B424-903A069A03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D7EB-86A0-420D-A5FA-ACF5B0E506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331C4E-2636-4472-93C4-C30F13314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B6595-A9A4-4374-841E-9DA2EB8528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52C19-6DC0-4A70-B6D8-F6D0AE77F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CA27F-09B6-44C6-A9DF-6536D635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C2ADF-8A3E-4F00-BEFC-3BBF11BB2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7041B-FC9B-4B6B-B06C-F6CE6848C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A675C-6B61-4A48-8A4A-B9AD7451F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B09728-EDE8-4EFF-92A4-26C59FE2A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8F1CD1-2AA0-407A-A996-5D441305A8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0C458-28A0-4290-9A8D-41094ED23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64A71D-AD8E-4953-9158-1F26B6AE58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6C6D4-7C96-4D52-975A-E36A28EA6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75E1-1942-477D-924E-66CB4CA5B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63459-6511-42F2-B22C-7560A9406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F2237-6120-460F-8033-4867DF2C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6D9F4-A69E-4FA5-A14A-8A76D71DA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522C8-4F61-4971-9E25-A74AACB89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9B0E-5E43-4D35-991E-E21003A6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78E3-13E1-4A52-A995-8633522AE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9B845-CF3F-4B77-8BC5-CE6C30BDD8A5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Calibri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73EE1-72AC-498A-98F3-045EA08A9152}" type="slidenum">
              <a:rPr b="0" lang="ar-SA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TextBox 8"/>
          <p:cNvSpPr/>
          <p:nvPr/>
        </p:nvSpPr>
        <p:spPr>
          <a:xfrm>
            <a:off x="811080" y="2286000"/>
            <a:ext cx="73152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r" rtl="1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KW" sz="2800" spc="-1" strike="noStrike">
                <a:solidFill>
                  <a:srgbClr val="ffffff"/>
                </a:solidFill>
                <a:latin typeface="Calibri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8" name=""/>
          <p:cNvSpPr/>
          <p:nvPr/>
        </p:nvSpPr>
        <p:spPr>
          <a:xfrm>
            <a:off x="324000" y="141300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9" name="Footer Placeholder 3"/>
          <p:cNvSpPr/>
          <p:nvPr/>
        </p:nvSpPr>
        <p:spPr>
          <a:xfrm>
            <a:off x="304920" y="6213600"/>
            <a:ext cx="43383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0" name="Date Placeholder 6"/>
          <p:cNvSpPr/>
          <p:nvPr/>
        </p:nvSpPr>
        <p:spPr>
          <a:xfrm>
            <a:off x="5270400" y="6237360"/>
            <a:ext cx="304668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1" name=""/>
          <p:cNvSpPr/>
          <p:nvPr/>
        </p:nvSpPr>
        <p:spPr>
          <a:xfrm>
            <a:off x="250920" y="811080"/>
            <a:ext cx="8064360" cy="14328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000" spc="-1" strike="noStrike">
                <a:solidFill>
                  <a:srgbClr val="ff0000"/>
                </a:solidFill>
                <a:latin typeface="Garamond"/>
                <a:cs typeface="PT Bold Heading"/>
              </a:rPr>
              <a:t>ت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cs typeface="PT Bold Heading"/>
              </a:rPr>
              <a:t>ه</a:t>
            </a:r>
            <a:r>
              <a:rPr b="1" lang="ar-KW" sz="2000" spc="-1" strike="noStrike">
                <a:solidFill>
                  <a:srgbClr val="009900"/>
                </a:solidFill>
                <a:latin typeface="Garamond"/>
                <a:cs typeface="PT Bold Heading"/>
              </a:rPr>
              <a:t>نئة</a:t>
            </a:r>
            <a:r>
              <a:rPr b="1" lang="ar-KW" sz="2000" spc="-1" strike="noStrike">
                <a:solidFill>
                  <a:srgbClr val="ffffff"/>
                </a:solidFill>
                <a:latin typeface="Garamond"/>
                <a:ea typeface="PT Bold Heading"/>
              </a:rPr>
              <a:t> </a:t>
            </a:r>
            <a:r>
              <a:rPr b="0" lang="ar-SA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Calibri"/>
            </a:endParaRPr>
          </a:p>
          <a:p>
            <a:pPr algn="just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KW" sz="2800" spc="-1" strike="noStrike">
                <a:solidFill>
                  <a:srgbClr val="ffffff"/>
                </a:solidFill>
                <a:latin typeface="Cambria"/>
              </a:rPr>
              <a:t> </a:t>
            </a:r>
            <a:r>
              <a:rPr b="1" lang="ar-SA" sz="1800" spc="-1" strike="noStrike">
                <a:solidFill>
                  <a:srgbClr val="ffffff"/>
                </a:solidFill>
                <a:latin typeface="Arial"/>
              </a:rPr>
              <a:t>يسر موقع كلمات وعبارات تهنئة الشعب الكويتي الكريم ، بمناسبة العيد الوطني لدولة الكويت وعيد التحرير وندعو الله أن يحفظ الكويت من كل مكروه .</a:t>
            </a:r>
            <a:r>
              <a:rPr b="1" lang="ar-SA" sz="2800" spc="-1" strike="noStrike">
                <a:solidFill>
                  <a:srgbClr val="ffffff"/>
                </a:solidFill>
                <a:latin typeface="Arial"/>
              </a:rPr>
              <a:t> 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9645480" y="46080"/>
            <a:ext cx="4762800" cy="36766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3"/>
          <a:stretch/>
        </p:blipFill>
        <p:spPr>
          <a:xfrm>
            <a:off x="179280" y="2349360"/>
            <a:ext cx="8280360" cy="38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8T06:42:19Z</dcterms:created>
  <dc:creator>Al-Ajmi DN (Dhari) TID</dc:creator>
  <dc:description/>
  <dc:language>en-US</dc:language>
  <cp:lastModifiedBy>abdallah</cp:lastModifiedBy>
  <dcterms:modified xsi:type="dcterms:W3CDTF">2018-02-05T14:40:19Z</dcterms:modified>
  <cp:revision>52</cp:revision>
  <dc:subject/>
  <dc:title>PowerPoint Presentation</dc:title>
</cp:coreProperties>
</file>