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7AD38-7587-4CAE-811E-6CE48463E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03533-315E-47C7-8F5A-454CAE106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7A424-2E6D-4A29-AC4A-6489C2BD8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20A52-70CE-4796-8D97-DED9CC811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1C1DE-3FC7-416F-A061-E507D8B2F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4165A-133E-4423-A7E7-7AA41C8BD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16FF5-3029-48DE-8E69-505FF8B8B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3EF40-6E03-4B5A-A198-B707C8036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A3111-0C34-40BF-85F1-9428722DA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30083-5881-49BC-BD82-B137109D2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C0E68-E728-4E9F-8A3C-69E5BC6EA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AC4E9-BA01-442B-B081-DDCE2EC5F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8200C-6011-40F5-B32F-127AFF39B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5DC8E-9542-4168-A27F-F3C2334D9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DCC1B-6977-43B3-9BBC-CA6A9287F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25283-F847-45CE-AB6B-B2F86B0E1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A0460-06EB-4958-8B08-663FE177D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B65C2-DCCD-4018-B634-1C08D426B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6FDC2-E03B-4D67-B4FE-6965855A9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AB042-D84F-40F9-B275-D52E5960F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98CC2-5E7F-4ED6-998C-08CBE6F58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D60BA-F072-43AD-BD68-E48E161B4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C3C6F-685E-4696-A87A-DEC5BE522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FD231-E44D-4996-9E91-6FB453B15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D1CD4-3F7E-4549-B822-AC120265DEC0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0E290-04D5-4FE1-ACD1-0049BB32D4E8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Box 8"/>
          <p:cNvSpPr/>
          <p:nvPr/>
        </p:nvSpPr>
        <p:spPr>
          <a:xfrm>
            <a:off x="811080" y="2286000"/>
            <a:ext cx="73152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2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1413000"/>
            <a:ext cx="80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Footer Placeholder 3"/>
          <p:cNvSpPr/>
          <p:nvPr/>
        </p:nvSpPr>
        <p:spPr>
          <a:xfrm>
            <a:off x="304920" y="6213600"/>
            <a:ext cx="43383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Date Placeholder 6"/>
          <p:cNvSpPr/>
          <p:nvPr/>
        </p:nvSpPr>
        <p:spPr>
          <a:xfrm>
            <a:off x="5270400" y="6237360"/>
            <a:ext cx="3046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"/>
          <p:cNvSpPr/>
          <p:nvPr/>
        </p:nvSpPr>
        <p:spPr>
          <a:xfrm>
            <a:off x="250920" y="811080"/>
            <a:ext cx="8064360" cy="1432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000" spc="-1" strike="noStrike">
                <a:solidFill>
                  <a:srgbClr val="ff0000"/>
                </a:solidFill>
                <a:latin typeface="Garamond"/>
                <a:cs typeface="PT Bold Heading"/>
              </a:rPr>
              <a:t>ت</a:t>
            </a:r>
            <a:r>
              <a:rPr b="1" lang="ar-KW" sz="2000" spc="-1" strike="noStrike">
                <a:solidFill>
                  <a:srgbClr val="ffffff"/>
                </a:solidFill>
                <a:latin typeface="Garamond"/>
                <a:cs typeface="PT Bold Heading"/>
              </a:rPr>
              <a:t>ه</a:t>
            </a:r>
            <a:r>
              <a:rPr b="1" lang="ar-KW" sz="2000" spc="-1" strike="noStrike">
                <a:solidFill>
                  <a:srgbClr val="009900"/>
                </a:solidFill>
                <a:latin typeface="Garamond"/>
                <a:cs typeface="PT Bold Heading"/>
              </a:rPr>
              <a:t>نئة</a:t>
            </a:r>
            <a:r>
              <a:rPr b="1" lang="ar-KW" sz="2000" spc="-1" strike="noStrike">
                <a:solidFill>
                  <a:srgbClr val="ffffff"/>
                </a:solidFill>
                <a:latin typeface="Garamond"/>
                <a:ea typeface="PT Bold Heading"/>
              </a:rPr>
              <a:t> 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8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يسر موقع كلمات وعبارات تهنئة الشعب الكويتي الكريم ، بمناسبة العيد الوطني لدولة الكويت وعيد التحرير وندعو الله أن يحفظ الكويت من كل مكروه .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9645480" y="46080"/>
            <a:ext cx="4762800" cy="36766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9645480" y="46080"/>
            <a:ext cx="4762800" cy="36766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179280" y="2349360"/>
            <a:ext cx="82803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8T06:42:19Z</dcterms:created>
  <dc:creator>Al-Ajmi DN (Dhari) TID</dc:creator>
  <dc:description/>
  <dc:language>en-US</dc:language>
  <cp:lastModifiedBy>abdallah</cp:lastModifiedBy>
  <dcterms:modified xsi:type="dcterms:W3CDTF">2018-02-05T14:40:19Z</dcterms:modified>
  <cp:revision>52</cp:revision>
  <dc:subject/>
  <dc:title>PowerPoint Presentation</dc:title>
</cp:coreProperties>
</file>