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7376-8464-41A9-9DB8-312C094A8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4FA3-F127-44A6-A83B-6298F3371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3B91-E577-4D1C-8806-90405EA11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BFFE-7A1F-48C1-9831-24FCC6587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167F6-D58B-4FE5-ABC4-F5C12F64A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2B318-862C-40B4-8B84-1EDE60933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28D66-15E2-40F5-8079-458618F66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14FB5-EDED-48D2-9AA6-A1D5009F6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83B29-32D5-4EDC-B366-96F0D3FFC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0DCFC-48D6-4C37-AB9D-08E71B761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652F9-1D25-4A17-8BDB-2BD1FACAB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47AA-B39A-4A85-B47A-67F374AC8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3274F-1144-4F29-9E91-CC5C30D4C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A1401-99D0-4D59-B5B3-C371CFD00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8FBE6-267F-45A4-958F-17BF0448C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5A5C5-9BAD-48B0-AB6D-BF884193B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078C5-C402-4FA4-9A62-4AA7F4FB3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4142-3AFF-47C2-9AFE-E949B5D0A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D5A0-6CD4-4C78-A911-F76BC5EDA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9B62-D913-4865-88A3-086710A55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57F0-2712-4C12-AE18-D11142755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0E11-C122-4AE0-B26A-9EF8DF576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EA54-8479-47E0-9B5B-9CC24D65B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F722-D2D8-4F84-9FC0-A43B0993F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B98FA-7518-44BF-A4C8-BE1D608BE9AE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4C655-6FDE-4039-BC30-8D0092AECA63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8"/>
          <p:cNvSpPr/>
          <p:nvPr/>
        </p:nvSpPr>
        <p:spPr>
          <a:xfrm>
            <a:off x="811080" y="2286000"/>
            <a:ext cx="73152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41300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Footer Placeholder 3"/>
          <p:cNvSpPr/>
          <p:nvPr/>
        </p:nvSpPr>
        <p:spPr>
          <a:xfrm>
            <a:off x="304920" y="6213600"/>
            <a:ext cx="43383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Date Placeholder 6"/>
          <p:cNvSpPr/>
          <p:nvPr/>
        </p:nvSpPr>
        <p:spPr>
          <a:xfrm>
            <a:off x="5270400" y="6237360"/>
            <a:ext cx="304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811080"/>
            <a:ext cx="8064360" cy="1432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000" spc="-1" strike="noStrike">
                <a:solidFill>
                  <a:srgbClr val="ff0000"/>
                </a:solidFill>
                <a:latin typeface="Garamond"/>
                <a:cs typeface="PT Bold Heading"/>
              </a:rPr>
              <a:t>ت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cs typeface="PT Bold Heading"/>
              </a:rPr>
              <a:t>ه</a:t>
            </a:r>
            <a:r>
              <a:rPr b="1" lang="ar-KW" sz="2000" spc="-1" strike="noStrike">
                <a:solidFill>
                  <a:srgbClr val="009900"/>
                </a:solidFill>
                <a:latin typeface="Garamond"/>
                <a:cs typeface="PT Bold Heading"/>
              </a:rPr>
              <a:t>نئة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ea typeface="PT Bold Heading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يسر موقع كلمات وعبارات تهنئة الشعب الكويتي الكريم ، بمناسبة العيد الوطني لدولة الكويت وعيد التحرير وندعو الله أن يحفظ الكويت من كل مكروه .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79280" y="2349360"/>
            <a:ext cx="8280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06:42:19Z</dcterms:created>
  <dc:creator>Al-Ajmi DN (Dhari) TID</dc:creator>
  <dc:description/>
  <dc:language>en-US</dc:language>
  <cp:lastModifiedBy>abdallah</cp:lastModifiedBy>
  <dcterms:modified xsi:type="dcterms:W3CDTF">2018-02-05T14:40:19Z</dcterms:modified>
  <cp:revision>52</cp:revision>
  <dc:subject/>
  <dc:title>PowerPoint Presentation</dc:title>
</cp:coreProperties>
</file>