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52EB-5B71-461E-BCA0-54BBC3D1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678-3452-4EA1-AC8F-80999E13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B8E-6332-4DE4-8C64-31AFB164B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0E17-07FB-44B6-9700-75B3251B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70C7-1592-4EC4-81DF-929D6023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A049-3DB8-4EF0-907A-D65C9A75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BE78-08FA-4EA6-BBD9-14ADCAE1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D102-E67C-4A38-83D4-8900F796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8E3E-9E11-4C6E-848A-8B945845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4FA3-8F0C-471A-9584-3C3A3A6D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6B7-2531-4571-8184-FE4C9C21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543-A8E1-4481-A548-BD7D74D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3E1B-D60F-4676-98D4-648E646D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9474-CCB3-4F1B-9469-08FDC1B3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8ACB-CB31-4A99-ACE9-5CCEB7F1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436E-B9BA-43B0-AFFF-25C74D4FF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EA4A-EEBF-4735-B90B-984012C6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A87-656A-46EC-B7AA-9BAD495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6151-D6EE-4FDC-81F6-BD35A8E2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D37-A70C-494B-A060-1FBE0F8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10A-EB54-48AE-BBA2-6DA67F9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E54-BAFF-4C6E-94BC-85F07F13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5EAD-2045-4E5E-B1C6-E4216D8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84D-7483-489D-8B03-2564AE52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0CB0-689E-43D0-AF40-9EED4A0C460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48B9-A222-4EE9-A067-0B13632FB5F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مراحل ا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cs typeface="PT Bold Heading"/>
              </a:rPr>
              <a:t>في مجال الدفاع المدني علي المستوي المحل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مرحلة المواجهة والاستجابة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عتمد مرحلة المواجهة والاستجابة على عدة عوامل مثل :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علومات الفورية عن الحادث ونتائجه وقدرته تساعد على اتخاذ  القرار المناسب( مسئولية الشرط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الموقع مع اتخاذ إجراءات العزل لموقع الحادث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( مسئولية الشرطة + المرور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just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واجد غرفة عمليات مركزية وأخري عملية بموقع الحادث للسيطرة والتوجيه واستقبال التقارير وإرسالها بالسرعة الممكنة ( مسئولية الجهة القائدة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نسيق الأنشطة الرسمية خلال مرحلة المواجهة لتجنب تداخل الاختصاصات والأنشطة              ( الجهة القائدة + الجهة الفنية القائمة علي التعامل مع الحادث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إعلام والمعلومات بشأن خطورة الموقف والإجراءات الاستثنائية خلال الحدث ( الجهة القائدة 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جمع المعلومات عن الحادث وتأثيراته ( أجهزة البحث الجنائي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2-1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 خدمات الإنقا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قوات الدفاع المدني تقدم خدماتها معتمدة علي الأدوات المتاحة وطبيعة الحدث ويختص بها السلطات الرسمية والجهات المعاونة ( شركات المقاولات – شركات الكهرباء – هيئات البيئة – المصانع الكبرى –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خ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2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خدمات الطبية </a:t>
            </a:r>
            <a:r>
              <a:rPr b="0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تحديد إمكانيات وقدرات الخدمات الطبية ( مستشفيات – إسعاف ) مهم جدا  للوقوف علي قدراتها علي استيعاب المصابين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إلخ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-3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جموعات التطوعية </a:t>
            </a:r>
            <a:r>
              <a:rPr b="0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تم تحديد أعداد المتطوعين بالمنظمات والجمعيات الأهلية ( الهلال الأحمر – تنمية المجتمع – 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التي يمكن أن يشاركوا في العمليات المساعدة للسلطات الرسمية وقت الحدث علي أن يتم تدريبهم مسبقا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مرحلة إعادة التوازن ( ما بعد الموجهة )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1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-  المكونات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قصيرة الأجل التي تمكن من إعادة النشاط للمكان بسرع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خطط طويلة الأجل من أجل تجنب مثل هذا الحدث في نفس هذا المكان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3-2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أهداف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إدارة النشاط والإنتاج للمكان بالسرعة الممكن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= الدراسة الكاملة للإيجابيات والسلبيات من أجل زيادة الفاعلية والكفاءة للإجراءات بالمكان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4</a:t>
            </a:r>
            <a:r>
              <a:rPr b="1" lang="ar-SA" sz="40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:-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نقصد هنا وضع سيناريوهات للمواقف المتوقعة لدراسة أثارها علي العناصر المحيطة( الحياة – الممتلكات – البيئة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AE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5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- الاختبارات العملية علي كفاءة خطط الطوارئ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جب عمل اختبارات عملية علي سيناريوهات الخطة لمعرفة رد الفعل والاستجابة للسلطات الرسمية تجاه الحدث ( الكفاءة – الوقت – التنظيم – التنسيق )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متابعة بمعرفة القيادات المختصة ( الأمن – الدفاع المدني- الشرطة – المرور ) ويتم ذلك من خلال تجارب عملية ليلية أو نهارية خلال مدة زمنية محدده ( كل ثلاثة أشهر أو ستة أشهر خلال العام </a:t>
            </a:r>
            <a:r>
              <a:rPr b="0" lang="ar-AE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)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6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تقييم خطة الطوارئ :- يجب الإجابة علي عدة أسئلة خلال عملية التخطيط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الخطة كامل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أعلنت الخطة للهيئات والجهات المسئولة والمنسقة 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إلي أي مدي تكون الخطة مناسبة لطبيعة الأنظمة الإداري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هل تتم البرامج التدريبية العملية بكفاءة ؟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cs typeface="HeshamNormal"/>
              </a:rPr>
              <a:t>وبصفة عامة هل أجابت الخطة علي خمس علامات استفهام تبدأ بحرف (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) باللغة الإنجليزية وهي :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who- where- how - when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–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which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54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شكراً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895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imes New Roman"/>
                <a:cs typeface="PT Bold Heading"/>
              </a:rPr>
              <a:t>عقيد /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Monotype Koufi"/>
              </a:rPr>
              <a:t>" أسامة إبراهيم شعبان 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مدير ادارة الدفاع المدنى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بالدقهليه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10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ظهرت الحوادث الحالية أهمية وضرورة التخطيط الجيد والهادف لمواجهة الطوارئ وهذا يتطلب الجهود والدعم والتنسيق الكامل لكل الهيئات التي تتعامل مع المواقف الطارئة</a:t>
            </a:r>
            <a:r>
              <a:rPr b="0" lang="ar-SA" sz="40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cc00"/>
                </a:solidFill>
                <a:latin typeface="Times New Roman"/>
                <a:cs typeface="HeshamNormal"/>
              </a:rPr>
              <a:t>وفي هذه الدراسة سنستعرض التخطيط للطوارئ في مجال الدفاع المدني وحسب الترتيب التالي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قصود بالحوادث الطارئة في هذه </a:t>
            </a:r>
            <a:r>
              <a:rPr b="1" lang="ar-AE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دراسة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أهمية التخطيط  لمواجهة الكوارث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3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المراحل الأساسية للتخطيط للطوار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01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cs typeface="HeshamNormal"/>
              </a:rPr>
              <a:t>المقصود بالحوادث الطارئة في هذه الدراسة :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 algn="r" rtl="1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يقصد بالحوادث الطارئة في استعراضا هذا تلك الحوادث سواء أن كانت الطبيعية أو التي من صنع الإنسان والتي تتطلب مواجهتها قدرات عالية للأجهزة المعنية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2</a:t>
            </a:r>
            <a:r>
              <a:rPr b="1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أهمية وأهداف التخطيط ل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  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2/1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تخاذ الإجراءات وتحديد الأدوار والمسئوليات لكل جه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2/2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– التنسيق وتنظيم التعاون طبقا لنظام متخصص ومكتوب ومعتمد وذلك لإعطاء رد فعل سريع ومناسب تجاه أي حادث طوارئ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3</a:t>
            </a:r>
            <a:r>
              <a:rPr b="0" lang="ar-SA" sz="32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المراحل الأساسية لخطة الطوارئ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 عملية إدارة الحوادث الكبرى أو الكوارث تتطلب جهودا منظمة وفعالة وكافية للمواجهة تتلخص في ستة مراحل كالأتي :-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1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الاستعداد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2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مواجهة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مرحلة إعادة التوازن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/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4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- الإجراءات القياسية لمواجهة الحوادث الكبرى والكوارث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5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الاختبارات العملية لقياس كفاءة خطط الطوارئ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3/6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– مرحلة التقييم </a:t>
            </a:r>
            <a:r>
              <a:rPr b="0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429000" y="2666880"/>
            <a:ext cx="25146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احل التخطيط الهاد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0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r>
              <a:rPr b="1" lang="ar-AE" sz="20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لمواجهة الطوار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6248520" y="304812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إعداد</a:t>
            </a:r>
            <a:r>
              <a:rPr b="0" lang="ar-AE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8532600">
            <a:off x="540972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 إعادة التوازن</a:t>
            </a:r>
            <a:r>
              <a:rPr b="0" lang="ar-AE" sz="18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054400">
            <a:off x="914040" y="9144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إجراءات القياسية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2971800"/>
            <a:ext cx="2590560" cy="91440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مرحلة المواجه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2864000">
            <a:off x="5714280" y="525780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ج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9707000">
            <a:off x="1066320" y="5028840"/>
            <a:ext cx="2590920" cy="91440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2400" spc="-1" strike="noStrike">
                <a:solidFill>
                  <a:srgbClr val="000099"/>
                </a:solidFill>
                <a:latin typeface="Times New Roman"/>
                <a:cs typeface="HeshamNormal"/>
              </a:rPr>
              <a:t>التقييم</a:t>
            </a:r>
            <a:r>
              <a:rPr b="0" lang="ar-AE" sz="2400" spc="-1" strike="noStrike">
                <a:solidFill>
                  <a:srgbClr val="000099"/>
                </a:solidFill>
                <a:latin typeface="Times New Roman"/>
                <a:ea typeface="HeshamNorm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 u="sng">
                <a:solidFill>
                  <a:srgbClr val="ffcc00"/>
                </a:solidFill>
                <a:uFillTx/>
                <a:latin typeface="Times New Roman"/>
              </a:rPr>
              <a:t>3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</a:rPr>
              <a:t>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– مرحلة الاستعداد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/1/1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المكونات </a:t>
            </a:r>
            <a:r>
              <a:rPr b="1" lang="ar-SA" sz="28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لحد من مسببات الحوادث الكبرى ( خطط الوقاية من الحرائق – مساحات الأمان من الصناعات الخطيرة والمناطق السكانية – التحكم في توقيتات تداول المواد الخطرة – إنشاء مجاري للسيول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أنشطة لتطوير القابلية والمهارات اللازمة لمواجهة الحوادث الكبرى ( قدرات السلطات الرسمية – قدرات السلطات المحلية – خطط التعاون – خطط الإخلاء –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0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إلخ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التدريب الجيد المسبق والاهتمام بالعنصر البشري وبصفة عامة تنظيم الموارد 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 مرفق </a:t>
            </a:r>
            <a:r>
              <a:rPr b="1" lang="ar-AE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1</a:t>
            </a:r>
            <a:r>
              <a:rPr b="1" lang="ar-SA" sz="28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}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التشريعات اللازمة لتحقيق قدر آمن للمجتمع المحيط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 algn="r" rtl="1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ضع خطة لاعلام المواطنين أثناء الأزمات 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ea typeface="HeshamNormal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3-1-2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</a:rPr>
              <a:t> – الأهداف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بناء ما يمكن لمنع أو تقليل حدة الحوادث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درجة الخطورة للاماكن طبقا لجغرافيتها وطبيعة النشاط الممارس بها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1560" indent="-231480" algn="r" rtl="1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تحديد وسائل الاتصال والنقل والخدمات الطبية وإجراءات السيطرة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ff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3-1-3</a:t>
            </a:r>
            <a:r>
              <a:rPr b="1" lang="ar-SA" sz="3600" spc="-1" strike="noStrike" u="sng">
                <a:solidFill>
                  <a:srgbClr val="ffcc00"/>
                </a:solidFill>
                <a:uFillTx/>
                <a:latin typeface="Times New Roman"/>
                <a:ea typeface="HeshamNormal"/>
              </a:rPr>
              <a:t> – أهمية الاتصالات :-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00"/>
                </a:solidFill>
                <a:latin typeface="Times New Roman"/>
                <a:cs typeface="HeshamNormal"/>
              </a:rPr>
              <a:t>وسائل الاتصال لها أهمية كبري في المواجهة والاستجابة السريعة للحوادث ولرد الفعل الايجابي تجاهها ؛ وكذا تبادل المعلومات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{مرفق  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2</a:t>
            </a:r>
            <a:r>
              <a:rPr b="1" lang="ar-SA" sz="3600" spc="-1" strike="noStrike" u="sng">
                <a:solidFill>
                  <a:srgbClr val="ffff00"/>
                </a:solidFill>
                <a:uFillTx/>
                <a:latin typeface="Times New Roman"/>
                <a:ea typeface="HeshamNormal"/>
              </a:rPr>
              <a:t>  }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8:48:28Z</dcterms:created>
  <dc:creator>A_AMIN</dc:creator>
  <dc:description/>
  <dc:language>en-US</dc:language>
  <cp:lastModifiedBy>علاء الجمال </cp:lastModifiedBy>
  <dcterms:modified xsi:type="dcterms:W3CDTF">2007-03-06T13:13:18Z</dcterms:modified>
  <cp:revision>25</cp:revision>
  <dc:subject/>
  <dc:title>Slide 1</dc:title>
</cp:coreProperties>
</file>