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6E31-6B4A-4E0B-A925-ABFCD0F3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A1F3-C460-4E83-A250-CF13880E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EF5A-40CE-4C51-819A-545728A3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527D-3E8B-4996-86A3-2DB79F2F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D972-F3A2-4405-B9B2-E222749C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3DE2-E353-4CF2-9091-AB3E02BF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DEF0-D32D-4B64-A0CE-33E0E6E0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76A9-075A-4C50-BEAB-DD97E484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AE0F-A1B8-462B-AB97-4A16B8FA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24FB-5EC6-4241-BDA3-F2A172C1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0BC4-08D4-4FF5-A4C6-66B89014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4BC6-2B3E-4D26-8159-FB7F8104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D952-C407-40A9-B642-ECC2C96D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C9FC-FA02-460A-9D28-B916E3D4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2122-30A5-4702-9F08-7C4095FF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A820-8AA3-4D2B-9E06-BFF403CD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A4AA-AF4B-46DC-B392-1F7FA132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1221-CCBF-4E8F-818B-0BDFD327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5843-39D6-4BA6-AE51-BFCAF290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838B-02C0-40FE-B958-193A4F8B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F17E-6202-41C3-A1E3-07F4D2D5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AA51-69CC-4471-A90A-6E259D54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D729-3B77-4267-86F3-FDFF97F8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0E8C-657C-4CC8-8839-CA81A7F0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D9E2-EBA4-43BB-97AF-B9A779BA7A2C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2667-0DE1-40AF-803E-041424C5C979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مراحل ا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cs typeface="PT Bold Heading"/>
              </a:rPr>
              <a:t>في مجال الدفاع المدني علي المستوي المحل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مرحلة المواجهة والاستجابة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عتمد مرحلة المواجهة والاستجابة على عدة عوامل مثل :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علومات الفورية عن الحادث ونتائجه وقدرته تساعد على اتخاذ  القرار المناسب( مسئولية الشرط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الموقع مع اتخاذ إجراءات العزل لموقع الحادث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( مسئولية الشرطة + المرور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واجد غرفة عمليات مركزية وأخري عملية بموقع الحادث للسيطرة والتوجيه واستقبال التقارير وإرسالها بالسرعة الممكنة ( مسئولية الجهة القائد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نسيق الأنشطة الرسمية خلال مرحلة المواجهة لتجنب تداخل الاختصاصات والأنشطة              ( الجهة القائدة + الجهة الفنية القائمة علي التعامل مع الحادث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إعلام والمعلومات بشأن خطورة الموقف والإجراءات الاستثنائية خلال الحدث ( الجهة القائدة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جمع المعلومات عن الحادث وتأثيراته ( أجهزة البحث الجنائي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2-1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 خدمات الإنقا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قوات الدفاع المدني تقدم خدماتها معتمدة علي الأدوات المتاحة وطبيعة الحدث ويختص بها السلطات الرسمية والجهات المعاونة ( شركات المقاولات – شركات الكهرباء – هيئات البيئة – المصانع الكبرى –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خ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2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خدمات الطبية 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إمكانيات وقدرات الخدمات الطبية ( مستشفيات – إسعاف ) مهم جدا  للوقوف علي قدراتها علي استيعاب المصابين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إلخ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3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جموعات التطوعية 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تم تحديد أعداد المتطوعين بالمنظمات والجمعيات الأهلية ( الهلال الأحمر – تنمية المجتمع – 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التي يمكن أن يشاركوا في العمليات المساعدة للسلطات الرسمية وقت الحدث علي أن يتم تدريبهم مسبق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مرحلة إعادة التوازن ( ما بعد الموجهة )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1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-  المكونات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قصيرة الأجل التي تمكن من إعادة النشاط للمكان بسرع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طويلة الأجل من أجل تجنب مثل هذا الحدث في نفس هذا المكان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2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أهداف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إدارة النشاط والإنتاج للمكان بالسرعة الممكن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دراسة الكاملة للإيجابيات والسلبيات من أجل زيادة الفاعلية والكفاءة للإجراءات بالمكا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4</a:t>
            </a: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:-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نقصد هنا وضع سيناريوهات للمواقف المتوقعة لدراسة أثارها علي العناصر المحيطة( الحياة – الممتلكات – البيئ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5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اختبارات العملية علي كفاءة خطط الطوارئ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جب عمل اختبارات عملية علي سيناريوهات الخطة لمعرفة رد الفعل والاستجابة للسلطات الرسمية تجاه الحدث ( الكفاءة – الوقت – التنظيم – التنسيق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تابعة بمعرفة القيادات المختصة ( الأمن – الدفاع المدني- الشرطة – المرور ) ويتم ذلك من خلال تجارب عملية ليلية أو نهارية خلال مدة زمنية محدده ( كل ثلاثة أشهر أو ستة أشهر خلال العام </a:t>
            </a:r>
            <a:r>
              <a:rPr b="0" lang="ar-AE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6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تقييم خطة الطوارئ :- يجب الإجابة علي عدة أسئلة خلال عملية التخطي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الخطة كامل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أعلنت الخطة للهيئات والجهات المسئولة والمنسق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إلي أي مدي تكون الخطة مناسبة لطبيعة الأنظمة الإداري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تتم البرامج التدريبية العملية بكفاء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هل أجابت الخطة علي خمس علامات استفهام تبدأ بحرف (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) باللغة الإنجليزية وهي :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ho- where- how - when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–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which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شكراً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عقيد /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" أسامة إبراهيم شعبان 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مدير ادارة الدفاع المدنى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بالدقهليه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ظهرت الحوادث الحالية أهمية وضرورة التخطيط الجيد والهادف لمواجهة الطوارئ وهذا يتطلب الجهود والدعم والتنسيق الكامل لكل الهيئات التي تتعامل مع المواقف الطارئة</a:t>
            </a:r>
            <a:r>
              <a:rPr b="0" lang="ar-SA" sz="40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HeshamNormal"/>
              </a:rPr>
              <a:t>وفي هذه الدراسة سنستعرض التخطيط للطوارئ في مجال الدفاع المدني وحسب الترتيب التالي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قصود بالحوادث الطارئة في هذه </a:t>
            </a:r>
            <a:r>
              <a:rPr b="1" lang="ar-AE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دراسة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أهمية التخطيط  لمواجهة الكوارث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3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راحل الأساسية ل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01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cs typeface="HeshamNormal"/>
              </a:rPr>
              <a:t>المقصود بالحوادث الطارئة في هذه الدراسة 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قصد بالحوادث الطارئة في استعراضا هذا تلك الحوادث سواء أن كانت الطبيعية أو التي من صنع الإنسان والتي تتطلب مواجهتها قدرات عالية للأجهزة المعني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أهمية وأهداف التخطيط ل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2/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تخاذ الإجراءات وتحديد الأدوار والمسئوليات لكل جه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/2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لتنسيق وتنظيم التعاون طبقا لنظام متخصص ومكتوب ومعتمد وذلك لإعطاء رد فعل سريع ومناسب تجاه أي حادث طوارئ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3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المراحل الأساسية لخطة ا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 عملية إدارة الحوادث الكبرى أو الكوارث تتطلب جهودا منظمة وفعالة وكافية للمواجهة تتلخص في ستة مراحل كالأتي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1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الاستعداد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2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مواجهة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إعادة التوازن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/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4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5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الاختبارات العملية لقياس كفاءة خطط الطوارئ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6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تقييم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29000" y="2666880"/>
            <a:ext cx="25146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احل التخطيط الهاد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لمواجهة الطوار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6248520" y="304812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إعداد</a:t>
            </a:r>
            <a:r>
              <a:rPr b="0" lang="ar-A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8532600">
            <a:off x="540972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 إعادة التوازن</a:t>
            </a:r>
            <a:r>
              <a:rPr b="0" lang="ar-AE" sz="18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54400">
            <a:off x="91404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إجراءات القياسية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97180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مواجه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2864000">
            <a:off x="5714280" y="52578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ج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707000">
            <a:off x="1066320" y="502884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قييم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 u="sng">
                <a:solidFill>
                  <a:srgbClr val="ffcc00"/>
                </a:solidFill>
                <a:uFillTx/>
                <a:latin typeface="Times New Roman"/>
              </a:rPr>
              <a:t>3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– مرحلة الاستعداد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/1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كونات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لحد من مسببات الحوادث الكبرى ( خطط الوقاية من الحرائق – مساحات الأمان من الصناعات الخطيرة والمناطق السكانية – التحكم في توقيتات تداول المواد الخطرة – إنشاء مجاري للسيول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تطوير القابلية والمهارات اللازمة لمواجهة الحوادث الكبرى ( قدرات السلطات الرسمية – قدرات السلطات المحلية – خطط التعاون – خطط الإخلاء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تدريب الجيد المسبق والاهتمام بالعنصر البشري وبصفة عامة تنظيم الموارد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 مرفق </a:t>
            </a:r>
            <a:r>
              <a:rPr b="1" lang="ar-AE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1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}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التشريعات اللازمة لتحقيق قدر آمن للمجتمع المحيط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خطة لاعلام المواطنين أثناء الأزمات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3-1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 – الأهداف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بناء ما يمكن لمنع أو تقليل حدة الحوادث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درجة الخطورة للاماكن طبقا لجغرافيتها وطبيعة النشاط الممارس بها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وسائل الاتصال والنقل والخدمات الطبية وإجراءات السيطرة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1-3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أهمية الاتصالات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سائل الاتصال لها أهمية كبري في المواجهة والاستجابة السريعة للحوادث ولرد الفعل الايجابي تجاهها ؛ وكذا تبادل المعلومات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مرفق 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2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 }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8:48:28Z</dcterms:created>
  <dc:creator>A_AMIN</dc:creator>
  <dc:description/>
  <dc:language>en-US</dc:language>
  <cp:lastModifiedBy>علاء الجمال </cp:lastModifiedBy>
  <dcterms:modified xsi:type="dcterms:W3CDTF">2007-03-06T13:13:18Z</dcterms:modified>
  <cp:revision>25</cp:revision>
  <dc:subject/>
  <dc:title>Slide 1</dc:title>
</cp:coreProperties>
</file>