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8A1E-097A-4FD1-9474-C97C4FAAB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33E5-174E-4196-A566-1863391CB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B65F-5B2A-436E-8073-357391C17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4D8F-AC76-4416-BB9F-58D3742C1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0D685-D544-4D1F-9FFC-C52E25628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55E66-80CA-40B8-B963-7D8F1C950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4A34C-114F-42C3-8CF0-E4CD5F302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D2A52-8C3C-4D9A-8358-5ED58F230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1B8A0-82A4-4408-8557-F9510D33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DA2E4-2972-474C-B4A3-D6ABECC5E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55D6A-A494-49B1-9C61-C981842E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9A9C-F20B-4EBC-96C3-B8A07175E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1917E-14CD-48F4-A875-BBCD69A3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D53FF-F6B9-4B9A-9066-9A7510BA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71957-C608-4711-9E22-D19B435F1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E9D3C-84D7-4905-B916-5C19F18D5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944DF-775F-407D-BB3A-0411303EF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5D46-5D2F-4560-BFD0-2B1CE9F8D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CA90-569C-437F-AF1E-29F74B3F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AE34-812D-4202-8159-87CE41237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BFB1-F78A-4FF0-91D8-FC9BFBEE4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3A56-CA07-40A0-9229-1BA9CD48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0038-B3C8-4366-A665-2B633466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9EF4-5B76-4004-98ED-6036433F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F2792-A089-403B-93EB-60218D10DCE3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0AFD2-F931-4C14-B0A2-47C930387C56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6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990720" y="28195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PT Bold Heading"/>
              </a:rPr>
              <a:t>مراحل التخطيط للطوار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cs typeface="PT Bold Heading"/>
              </a:rPr>
              <a:t>في مجال الدفاع المدني علي المستوي المحلي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مرحلة المواجهة والاستجابة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عتمد مرحلة المواجهة والاستجابة على عدة عوامل مثل :-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معلومات الفورية عن الحادث ونتائجه وقدرته تساعد على اتخاذ  القرار المناسب( مسئولية الشرطة )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حديد الموقع مع اتخاذ إجراءات العزل لموقع الحادث </a:t>
            </a:r>
            <a:r>
              <a:rPr b="0" lang="ar-AE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    </a:t>
            </a:r>
            <a:r>
              <a:rPr b="0" lang="ar-AE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( مسئولية الشرطة + المرور 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واجد غرفة عمليات مركزية وأخري عملية بموقع الحادث للسيطرة والتوجيه واستقبال التقارير وإرسالها بالسرعة الممكنة ( مسئولية الجهة القائدة )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نسيق الأنشطة الرسمية خلال مرحلة المواجهة لتجنب تداخل الاختصاصات والأنشطة              ( الجهة القائدة + الجهة الفنية القائمة علي التعامل مع الحادث )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الإعلام والمعلومات بشأن خطورة الموقف والإجراءات الاستثنائية خلال الحدث ( الجهة القائدة 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جمع المعلومات عن الحادث وتأثيراته ( أجهزة البحث الجنائي )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2-1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 خدمات الإنقاذ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قوات الدفاع المدني تقدم خدماتها معتمدة علي الأدوات المتاحة وطبيعة الحدث ويختص بها السلطات الرسمية والجهات المعاونة ( شركات المقاولات – شركات الكهرباء – هيئات البيئة – المصانع الكبرى –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الخ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-2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خدمات الطبية 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حديد إمكانيات وقدرات الخدمات الطبية ( مستشفيات – إسعاف ) مهم جدا  للوقوف علي قدراتها علي استيعاب المصابين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إلخ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-3</a:t>
            </a:r>
            <a:r>
              <a:rPr b="0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مجموعات التطوعية </a:t>
            </a:r>
            <a:r>
              <a:rPr b="0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يتم تحديد أعداد المتطوعين بالمنظمات والجمعيات الأهلية ( الهلال الأحمر – تنمية المجتمع – </a:t>
            </a:r>
            <a:r>
              <a:rPr b="0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إلخ ) التي يمكن أن يشاركوا في العمليات المساعدة للسلطات الرسمية وقت الحدث علي أن يتم تدريبهم مسبقا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مرحلة إعادة التوازن ( ما بعد الموجهة ) 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3-1</a:t>
            </a: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-  المكونات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خطط قصيرة الأجل التي تمكن من إعادة النشاط للمكان بسرعة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خطط طويلة الأجل من أجل تجنب مثل هذا الحدث في نفس هذا المكان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3-2</a:t>
            </a: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أهداف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إدارة النشاط والإنتاج للمكان بالسرعة الممكنة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الدراسة الكاملة للإيجابيات والسلبيات من أجل زيادة الفاعلية والكفاءة للإجراءات بالمكان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r" rtl="1">
              <a:spcBef>
                <a:spcPts val="10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4</a:t>
            </a:r>
            <a:r>
              <a:rPr b="1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الإجراءات القياسية لمواجهة الحوادث الكبرى والكوارث :-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نقصد هنا وضع سيناريوهات للمواقف المتوقعة لدراسة أثارها علي العناصر المحيطة( الحياة – الممتلكات – البيئة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ar-AE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440" y="60912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5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الاختبارات العملية علي كفاءة خطط الطوارئ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يجب عمل اختبارات عملية علي سيناريوهات الخطة لمعرفة رد الفعل والاستجابة للسلطات الرسمية تجاه الحدث ( الكفاءة – الوقت – التنظيم – التنسيق )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متابعة بمعرفة القيادات المختصة ( الأمن – الدفاع المدني- الشرطة – المرور ) ويتم ذلك من خلال تجارب عملية ليلية أو نهارية خلال مدة زمنية محدده ( كل ثلاثة أشهر أو ستة أشهر خلال العام </a:t>
            </a:r>
            <a:r>
              <a:rPr b="0" lang="ar-AE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)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6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تقييم خطة الطوارئ :- يجب الإجابة علي عدة أسئلة خلال عملية التخطيط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هل الخطة كاملة 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هل أعلنت الخطة للهيئات والجهات المسئولة والمنسقة 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وبصفة عامة إلي أي مدي تكون الخطة مناسبة لطبيعة الأنظمة الإدارية ؟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هل تتم البرامج التدريبية العملية بكفاءة ؟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وبصفة عامة هل أجابت الخطة علي خمس علامات استفهام تبدأ بحرف (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W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) باللغة الإنجليزية وهي :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who- where- how - when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–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which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1294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5400" spc="-1" strike="noStrike">
                <a:solidFill>
                  <a:srgbClr val="ffff00"/>
                </a:solidFill>
                <a:latin typeface="Times New Roman"/>
                <a:cs typeface="Monotype Koufi"/>
              </a:rPr>
              <a:t>شكراً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28951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PT Bold Heading"/>
              </a:rPr>
              <a:t>عقيد /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Monotype Koufi"/>
              </a:rPr>
              <a:t>" أسامة إبراهيم شعبان "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مدير ادارة الدفاع المدنى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بالدقهليه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r" rtl="1">
              <a:spcBef>
                <a:spcPts val="10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ظهرت الحوادث الحالية أهمية وضرورة التخطيط الجيد والهادف لمواجهة الطوارئ وهذا يتطلب الجهود والدعم والتنسيق الكامل لكل الهيئات التي تتعامل مع المواقف الطارئة</a:t>
            </a:r>
            <a:r>
              <a:rPr b="0" lang="ar-SA" sz="40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cc00"/>
                </a:solidFill>
                <a:latin typeface="Times New Roman"/>
                <a:cs typeface="HeshamNormal"/>
              </a:rPr>
              <a:t>وفي هذه الدراسة سنستعرض التخطيط للطوارئ في مجال الدفاع المدني وحسب الترتيب التالي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1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المقصود بالحوادث الطارئة في هذه </a:t>
            </a:r>
            <a:r>
              <a:rPr b="1" lang="ar-AE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دراسة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2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أهمية التخطيط  لمواجهة الكوارث 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3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المراحل الأساسية للتخطيط للطوار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</a:rPr>
              <a:t>01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</a:rPr>
              <a:t> 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cs typeface="HeshamNormal"/>
              </a:rPr>
              <a:t>المقصود بالحوادث الطارئة في هذه الدراسة :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يقصد بالحوادث الطارئة في استعراضا هذا تلك الحوادث سواء أن كانت الطبيعية أو التي من صنع الإنسان والتي تتطلب مواجهتها قدرات عالية للأجهزة المعنية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2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أهمية وأهداف التخطيط للطوارئ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  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2/1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– اتخاذ الإجراءات وتحديد الأدوار والمسئوليات لكل جه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2/2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– التنسيق وتنظيم التعاون طبقا لنظام متخصص ومكتوب ومعتمد وذلك لإعطاء رد فعل سريع ومناسب تجاه أي حادث طوارئ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3</a:t>
            </a: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المراحل الأساسية لخطة الطوارئ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ن عملية إدارة الحوادث الكبرى أو الكوارث تتطلب جهودا منظمة وفعالة وكافية للمواجهة تتلخص في ستة مراحل كالأتي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1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 مرحلة الاستعداد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2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– مرحلة المواجهة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3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 مرحلة إعادة التوازن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/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4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 الإجراءات القياسية لمواجهة الحوادث الكبرى والكوارث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5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– الاختبارات العملية لقياس كفاءة خطط الطوارئ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6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– مرحلة التقييم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429000" y="2666880"/>
            <a:ext cx="25146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احل التخطيط الهاد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r>
              <a:rPr b="1" lang="ar-AE" sz="20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لمواجهة الطوار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0800000">
            <a:off x="6248520" y="3048120"/>
            <a:ext cx="2590560" cy="914400"/>
          </a:xfrm>
          <a:custGeom>
            <a:avLst/>
            <a:gdLst>
              <a:gd name="textAreaLeft" fmla="*/ 0 w 2590560"/>
              <a:gd name="textAreaRight" fmla="*/ 2590920 w 259056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حلة الإعداد</a:t>
            </a:r>
            <a:r>
              <a:rPr b="0" lang="ar-AE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8532600">
            <a:off x="5409720" y="91440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حلة  إعادة التوازن</a:t>
            </a:r>
            <a:r>
              <a:rPr b="0" lang="ar-AE" sz="18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2054400">
            <a:off x="914040" y="91440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الإجراءات القياسية</a:t>
            </a:r>
            <a:r>
              <a:rPr b="0" lang="ar-AE" sz="24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2971800"/>
            <a:ext cx="2590560" cy="914400"/>
          </a:xfrm>
          <a:custGeom>
            <a:avLst/>
            <a:gdLst>
              <a:gd name="textAreaLeft" fmla="*/ 0 w 2590560"/>
              <a:gd name="textAreaRight" fmla="*/ 2590920 w 259056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حلة المواجه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2864000">
            <a:off x="5714280" y="525780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التجار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9707000">
            <a:off x="1066320" y="502884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التقييم</a:t>
            </a:r>
            <a:r>
              <a:rPr b="0" lang="ar-AE" sz="24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0"/>
                            </p:stCondLst>
                            <p:childTnLst>
                              <p:par>
                                <p:cTn id="5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000"/>
                            </p:stCondLst>
                            <p:childTnLst>
                              <p:par>
                                <p:cTn id="6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22824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r" rtl="1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 u="sng">
                <a:solidFill>
                  <a:srgbClr val="ffcc00"/>
                </a:solidFill>
                <a:uFillTx/>
                <a:latin typeface="Times New Roman"/>
              </a:rPr>
              <a:t>3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</a:rPr>
              <a:t>/1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</a:rPr>
              <a:t> 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– مرحلة الاستعداد 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r" rtl="1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/1/1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مكونات 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نشطة للحد من مسببات الحوادث الكبرى ( خطط الوقاية من الحرائق – مساحات الأمان من الصناعات الخطيرة والمناطق السكانية – التحكم في توقيتات تداول المواد الخطرة – إنشاء مجاري للسيول –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إلخ )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نشطة لتطوير القابلية والمهارات اللازمة لمواجهة الحوادث الكبرى ( قدرات السلطات الرسمية – قدرات السلطات المحلية – خطط التعاون – خطط الإخلاء –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إلخ 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تدريب الجيد المسبق والاهتمام بالعنصر البشري وبصفة عامة تنظيم الموارد </a:t>
            </a:r>
            <a:r>
              <a:rPr b="1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{ مرفق </a:t>
            </a:r>
            <a:r>
              <a:rPr b="1" lang="ar-AE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1</a:t>
            </a:r>
            <a:r>
              <a:rPr b="1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}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ضع التشريعات اللازمة لتحقيق قدر آمن للمجتمع المحيط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ضع خطة لاعلام المواطنين أثناء الأزمات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</a:rPr>
              <a:t>3-1-2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</a:rPr>
              <a:t> – الأهداف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بناء ما يمكن لمنع أو تقليل حدة الحوادث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تحديد درجة الخطورة للاماكن طبقا لجغرافيتها وطبيعة النشاط الممارس بها 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تحديد وسائل الاتصال والنقل والخدمات الطبية وإجراءات السيطرة 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1-3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أهمية الاتصالات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سائل الاتصال لها أهمية كبري في المواجهة والاستجابة السريعة للحوادث ولرد الفعل الايجابي تجاهها ؛ وكذا تبادل المعلومات </a:t>
            </a:r>
            <a:r>
              <a:rPr b="1" lang="ar-SA" sz="36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{مرفق  </a:t>
            </a:r>
            <a:r>
              <a:rPr b="1" lang="ar-SA" sz="36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2</a:t>
            </a:r>
            <a:r>
              <a:rPr b="1" lang="ar-SA" sz="36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 }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6T18:48:28Z</dcterms:created>
  <dc:creator>A_AMIN</dc:creator>
  <dc:description/>
  <dc:language>en-US</dc:language>
  <cp:lastModifiedBy>علاء الجمال </cp:lastModifiedBy>
  <dcterms:modified xsi:type="dcterms:W3CDTF">2007-03-06T13:13:18Z</dcterms:modified>
  <cp:revision>25</cp:revision>
  <dc:subject/>
  <dc:title>Slide 1</dc:title>
</cp:coreProperties>
</file>